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png" ContentType="image/png"/>
  <Override PartName="/ppt/media/image14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18.jpeg" ContentType="image/jpeg"/>
  <Override PartName="/ppt/media/image15.png" ContentType="image/png"/>
  <Override PartName="/ppt/media/image37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29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8E2-14A0-4255-B59B-74FEE923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3DA-25C7-469D-B564-A9D7E166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34E-F773-4EB7-885B-F36F0B0D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86A-DE45-4C50-A38E-E769F7A7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D5C-1CCC-47F5-A7EE-140E7609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5C6-CC63-489D-9FBE-7E0D51EC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1D1-BC01-49CD-9B41-66DD48F8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9AD-67B1-4F23-89FE-C4493978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B12-3077-4F15-9397-25A9631E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3BC-2B0B-4D50-85AB-C5B27A3C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317-72AF-4C0A-9297-11EB4DEE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6D7-B10C-40A0-B34E-CF34AA18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FDC1-5259-4FE2-A8CC-60F0A4D86E1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Object 9"/>
          <p:cNvGraphicFramePr/>
          <p:nvPr/>
        </p:nvGraphicFramePr>
        <p:xfrm>
          <a:off x="5562720" y="0"/>
          <a:ext cx="3338280" cy="123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0"/>
                    <a:ext cx="333828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Line 11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églalap 2"/>
          <p:cNvSpPr/>
          <p:nvPr/>
        </p:nvSpPr>
        <p:spPr>
          <a:xfrm>
            <a:off x="12600" y="213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Arial"/>
              </a:rPr>
              <a:t>A helyváltoztatási döntések és folyamatok befolyásolása információs szolgáltatásokk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églalap 4"/>
          <p:cNvSpPr/>
          <p:nvPr/>
        </p:nvSpPr>
        <p:spPr>
          <a:xfrm>
            <a:off x="324000" y="3341520"/>
            <a:ext cx="86025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r. Csiszár Csab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egyetemi doc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álóczi Déne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tudományos segédmunkatá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sztergár-Kiss Domoko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tanársegé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ándor Zsol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PhD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gy Enikő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PhD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erháti Baláz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onka Bálin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öldes Dávid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zövegdoboz 1"/>
          <p:cNvSpPr/>
          <p:nvPr/>
        </p:nvSpPr>
        <p:spPr>
          <a:xfrm>
            <a:off x="152280" y="76320"/>
            <a:ext cx="5229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udapesti Műszaki és Gazdaságtudományi Egyete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lekedésmérnöki és Járműmérnöki K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lekedésüzemi és Közlekedésgazdasági Tanszé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églalap 3"/>
          <p:cNvSpPr/>
          <p:nvPr/>
        </p:nvSpPr>
        <p:spPr>
          <a:xfrm>
            <a:off x="263520" y="637704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V. A városi közlekedés aktuális kérdése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Balatonfenyves 2014.09.1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églalap 3"/>
          <p:cNvSpPr/>
          <p:nvPr/>
        </p:nvSpPr>
        <p:spPr>
          <a:xfrm>
            <a:off x="201600" y="1052640"/>
            <a:ext cx="872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MOP-4.2.2.C-11/1/KONV-2012-0012: "Smarter Transport" - Kooperatív közlekedési rendszerek infokommunikációs támogatása –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 4-2 Forgalomlebonyolódási jellemzők előrebecsl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26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7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28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31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Téglalap 1"/>
          <p:cNvSpPr/>
          <p:nvPr/>
        </p:nvSpPr>
        <p:spPr>
          <a:xfrm>
            <a:off x="196920" y="1341360"/>
            <a:ext cx="8551800" cy="54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lyóirat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50021"/>
                </a:solidFill>
                <a:latin typeface="Arial"/>
              </a:rPr>
              <a:t>9. </a:t>
            </a:r>
            <a:r>
              <a:rPr b="0" lang="hu-HU" sz="14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Cserháti, B. – Csiszár, Cs.: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Conception of Personalized Parking Assistant Application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1400"/>
            </a:b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 P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eriodica Polytechnica Civil Engineering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10. Földes, D. – Csiszár, Cs.: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Route Plan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 Evaluation Method for Personalized Passenger Information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Service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 Transport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11. Csonka, B. – Csiszár, Cs.: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Service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Quality Analysis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and Assessment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Method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for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 Carsharing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Transportation Research Part A : Policy and Practice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12.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Sándor, Zs.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Effects of weather related safety messages on the motorway traffic parameters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(2014).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Transportation Research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Part F: Traffic Psychology and Behaviour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onferencia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1. Esztergár-Kiss, D. – Válóczi, D.: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thod for th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ganization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ily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tivity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in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rd International Conference on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els and Technologies for Intelligent Transport Systems, Dresd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2. Sándor, Zs.-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ésési események elemzése helyi autóbusz közlekedésb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nnováció és fenntartható felszíni közlekedés konferencia, Budapest. Elektronikusan publikálva: CD-n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aper 6. Szervező: Magyar Mérnökakadém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3. Nagy, E. - Esztergár-Kiss, D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ésési okok vizsgálata a vasúti személyszállításban 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nováció 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nntartható felszíni közlekedési konferencia, Budapest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ktronikusan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kálva: CD-n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 18. Szervező: Magyar Mérnökakadém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3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40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43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Text Box 4"/>
          <p:cNvSpPr/>
          <p:nvPr/>
        </p:nvSpPr>
        <p:spPr>
          <a:xfrm>
            <a:off x="-1523880" y="5540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078600" y="1720800"/>
          <a:ext cx="2465280" cy="2446560"/>
        </p:xfrm>
        <a:graphic>
          <a:graphicData uri="http://schemas.openxmlformats.org/drawingml/2006/table">
            <a:tbl>
              <a:tblPr/>
              <a:tblGrid>
                <a:gridCol w="1231920"/>
                <a:gridCol w="1233360"/>
              </a:tblGrid>
              <a:tr h="463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zonylat típ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zonylat jelz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tmérő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(11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ódó, egymást keresztez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és 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lomeráció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öv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rjár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és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okjár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 b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Tartalom helye 2"/>
          <p:cNvSpPr/>
          <p:nvPr/>
        </p:nvSpPr>
        <p:spPr>
          <a:xfrm>
            <a:off x="5711760" y="1197000"/>
            <a:ext cx="29638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jellegzetes viszonylat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típusok és viszonylat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43080" y="4365720"/>
          <a:ext cx="4194000" cy="2448000"/>
        </p:xfrm>
        <a:graphic>
          <a:graphicData uri="http://schemas.openxmlformats.org/drawingml/2006/table">
            <a:tbl>
              <a:tblPr/>
              <a:tblGrid>
                <a:gridCol w="1015920"/>
                <a:gridCol w="309600"/>
                <a:gridCol w="1160280"/>
                <a:gridCol w="309600"/>
                <a:gridCol w="1398600"/>
              </a:tblGrid>
              <a:tr h="234720">
                <a:tc row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őmérsék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padé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0 °C alat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 hid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az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°C fagypont körü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, fagypont körü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ő/havas eső (csendes eső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yhe id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lekedés szempontjából eseménytel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~30 °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 mel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vatarok, viharok, (esetleg jégesőv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Téglalap 18"/>
          <p:cNvSpPr/>
          <p:nvPr/>
        </p:nvSpPr>
        <p:spPr>
          <a:xfrm>
            <a:off x="320760" y="384192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dőjárási kategóriák a hőmérséklet és csapadék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927680" y="4498920"/>
          <a:ext cx="3531960" cy="2335320"/>
        </p:xfrm>
        <a:graphic>
          <a:graphicData uri="http://schemas.openxmlformats.org/drawingml/2006/table">
            <a:tbl>
              <a:tblPr/>
              <a:tblGrid>
                <a:gridCol w="255600"/>
                <a:gridCol w="973080"/>
                <a:gridCol w="1330200"/>
                <a:gridCol w="973080"/>
              </a:tblGrid>
              <a:tr h="54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ória elnevezé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árértékek</a:t>
                      </a:r>
                      <a:br>
                        <a:rPr sz="1000"/>
                      </a:b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ő/nap utas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választott megállók darabszá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epe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-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n jelentő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Σ</a:t>
                      </a:r>
                      <a:r>
                        <a:rPr b="1" lang="hu-H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Szövegdoboz 7"/>
          <p:cNvSpPr/>
          <p:nvPr/>
        </p:nvSpPr>
        <p:spPr>
          <a:xfrm>
            <a:off x="4643280" y="4149720"/>
            <a:ext cx="43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állóhely kategóriá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artalom helye 2"/>
          <p:cNvSpPr/>
          <p:nvPr/>
        </p:nvSpPr>
        <p:spPr>
          <a:xfrm>
            <a:off x="36360" y="1484280"/>
            <a:ext cx="59817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Milyen tényezők és milyen mértékben befolyásolják a megállóhelyi tartózkodási idő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asználá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Üzemeltetői feladatok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Utastájékoztatá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5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5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6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4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10960" y="2716200"/>
          <a:ext cx="8433000" cy="2441520"/>
        </p:xfrm>
        <a:graphic>
          <a:graphicData uri="http://schemas.openxmlformats.org/drawingml/2006/table">
            <a:tbl>
              <a:tblPr/>
              <a:tblGrid>
                <a:gridCol w="765360"/>
                <a:gridCol w="571320"/>
                <a:gridCol w="662040"/>
                <a:gridCol w="743040"/>
                <a:gridCol w="492120"/>
                <a:gridCol w="615960"/>
                <a:gridCol w="615960"/>
                <a:gridCol w="739800"/>
                <a:gridCol w="617400"/>
                <a:gridCol w="493920"/>
                <a:gridCol w="492120"/>
                <a:gridCol w="493560"/>
                <a:gridCol w="492120"/>
                <a:gridCol w="638280"/>
              </a:tblGrid>
              <a:tr h="61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átum n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őpo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d-sz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bes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at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 sorsz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etrendi_elt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ba e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zallas jel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6: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7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366" name="Téglalap 17"/>
          <p:cNvSpPr/>
          <p:nvPr/>
        </p:nvSpPr>
        <p:spPr>
          <a:xfrm>
            <a:off x="95400" y="2200320"/>
            <a:ext cx="54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árműkövető rendszer által rögzített adatok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artalom helye 2"/>
          <p:cNvSpPr/>
          <p:nvPr/>
        </p:nvSpPr>
        <p:spPr>
          <a:xfrm>
            <a:off x="5580000" y="2211480"/>
            <a:ext cx="2940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SV adatfomátum - Access adatbáz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72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74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77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artalom helye 2"/>
          <p:cNvSpPr/>
          <p:nvPr/>
        </p:nvSpPr>
        <p:spPr>
          <a:xfrm>
            <a:off x="1665360" y="1239840"/>
            <a:ext cx="5402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folyamat elemeinek és azok határpontjainak azonosítása (megállóhelyi és mozgási fázisok külön választása)</a:t>
            </a:r>
            <a:r>
              <a:rPr b="0" lang="hu-H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Kép 4" descr=""/>
          <p:cNvPicPr/>
          <p:nvPr/>
        </p:nvPicPr>
        <p:blipFill>
          <a:blip r:embed="rId2"/>
          <a:stretch/>
        </p:blipFill>
        <p:spPr>
          <a:xfrm>
            <a:off x="-36360" y="2276640"/>
            <a:ext cx="8710560" cy="4465440"/>
          </a:xfrm>
          <a:prstGeom prst="rect">
            <a:avLst/>
          </a:prstGeom>
          <a:ln w="0">
            <a:noFill/>
          </a:ln>
        </p:spPr>
      </p:pic>
      <p:sp>
        <p:nvSpPr>
          <p:cNvPr id="382" name="Tartalom helye 2"/>
          <p:cNvSpPr/>
          <p:nvPr/>
        </p:nvSpPr>
        <p:spPr>
          <a:xfrm>
            <a:off x="2859120" y="1955880"/>
            <a:ext cx="2963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datbázis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8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9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-1523880" y="5810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Tartalom helye 4" descr=""/>
          <p:cNvPicPr/>
          <p:nvPr/>
        </p:nvPicPr>
        <p:blipFill>
          <a:blip r:embed="rId2"/>
          <a:stretch/>
        </p:blipFill>
        <p:spPr>
          <a:xfrm>
            <a:off x="395280" y="2281320"/>
            <a:ext cx="742320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02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05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82760" y="3222720"/>
          <a:ext cx="3382920" cy="2509920"/>
        </p:xfrm>
        <a:graphic>
          <a:graphicData uri="http://schemas.openxmlformats.org/drawingml/2006/table">
            <a:tbl>
              <a:tblPr/>
              <a:tblGrid>
                <a:gridCol w="352440"/>
                <a:gridCol w="1266480"/>
                <a:gridCol w="862200"/>
                <a:gridCol w="901800"/>
              </a:tblGrid>
              <a:tr h="522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padl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padl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epe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n jelentő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Téglalap 20"/>
          <p:cNvSpPr/>
          <p:nvPr/>
        </p:nvSpPr>
        <p:spPr>
          <a:xfrm>
            <a:off x="76320" y="1838160"/>
            <a:ext cx="43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k (másodpercben) a megálló kategória és a padlómagasság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4716360" y="2935440"/>
          <a:ext cx="3514680" cy="2795400"/>
        </p:xfrm>
        <a:graphic>
          <a:graphicData uri="http://schemas.openxmlformats.org/drawingml/2006/table">
            <a:tbl>
              <a:tblPr/>
              <a:tblGrid>
                <a:gridCol w="2471760"/>
                <a:gridCol w="1042920"/>
              </a:tblGrid>
              <a:tr h="293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őjárási kategó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9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11.) száraz hid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21.) havaz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12.) száraz fagypont körü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2.) eső/havas es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13.) közlekedés szempontjából eseményte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14.) száraz me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) zivatarok, vihar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églalap 2"/>
          <p:cNvSpPr/>
          <p:nvPr/>
        </p:nvSpPr>
        <p:spPr>
          <a:xfrm>
            <a:off x="4303800" y="185580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k (másodpercben) az időjárás kategóriák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1" descr=""/>
          <p:cNvPicPr/>
          <p:nvPr/>
        </p:nvPicPr>
        <p:blipFill>
          <a:blip r:embed="rId1"/>
          <a:srcRect l="0" t="-289" r="0" b="0"/>
          <a:stretch/>
        </p:blipFill>
        <p:spPr>
          <a:xfrm>
            <a:off x="-36360" y="1536840"/>
            <a:ext cx="8856360" cy="46288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1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1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2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4" name="Téglalap 19"/>
          <p:cNvSpPr/>
          <p:nvPr/>
        </p:nvSpPr>
        <p:spPr>
          <a:xfrm>
            <a:off x="79200" y="6237360"/>
            <a:ext cx="86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 (másodpercben)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álló kategóriák és az időjárás kategóriák szeri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-1523880" y="54936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ávnyíl 74"/>
          <p:cNvSpPr/>
          <p:nvPr/>
        </p:nvSpPr>
        <p:spPr>
          <a:xfrm>
            <a:off x="3076560" y="8568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23760"/>
            <a:ext cx="1419120" cy="433440"/>
          </a:xfrm>
          <a:prstGeom prst="rect">
            <a:avLst/>
          </a:prstGeom>
          <a:ln w="0">
            <a:noFill/>
          </a:ln>
        </p:spPr>
      </p:pic>
      <p:sp>
        <p:nvSpPr>
          <p:cNvPr id="430" name="Szövegdoboz 35"/>
          <p:cNvSpPr/>
          <p:nvPr/>
        </p:nvSpPr>
        <p:spPr>
          <a:xfrm>
            <a:off x="3575160" y="4932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Csoportba foglalás 25"/>
          <p:cNvGrpSpPr/>
          <p:nvPr/>
        </p:nvGrpSpPr>
        <p:grpSpPr>
          <a:xfrm>
            <a:off x="4427640" y="52560"/>
            <a:ext cx="1420560" cy="337320"/>
            <a:chOff x="4427640" y="52560"/>
            <a:chExt cx="1420560" cy="337320"/>
          </a:xfrm>
        </p:grpSpPr>
        <p:sp>
          <p:nvSpPr>
            <p:cNvPr id="432" name="Sávnyíl 83"/>
            <p:cNvSpPr/>
            <p:nvPr/>
          </p:nvSpPr>
          <p:spPr>
            <a:xfrm>
              <a:off x="4427640" y="7632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Szövegdoboz 33"/>
            <p:cNvSpPr/>
            <p:nvPr/>
          </p:nvSpPr>
          <p:spPr>
            <a:xfrm>
              <a:off x="4938120" y="5256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Csoportba foglalás 26"/>
          <p:cNvGrpSpPr/>
          <p:nvPr/>
        </p:nvGrpSpPr>
        <p:grpSpPr>
          <a:xfrm>
            <a:off x="5788080" y="52560"/>
            <a:ext cx="1420920" cy="337320"/>
            <a:chOff x="5788080" y="52560"/>
            <a:chExt cx="1420920" cy="337320"/>
          </a:xfrm>
        </p:grpSpPr>
        <p:sp>
          <p:nvSpPr>
            <p:cNvPr id="435" name="Sávnyíl 86"/>
            <p:cNvSpPr/>
            <p:nvPr/>
          </p:nvSpPr>
          <p:spPr>
            <a:xfrm>
              <a:off x="5788080" y="7632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Szövegdoboz 31"/>
            <p:cNvSpPr/>
            <p:nvPr/>
          </p:nvSpPr>
          <p:spPr>
            <a:xfrm>
              <a:off x="6298920" y="5256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7" name="Tartalom helye 2" descr=""/>
          <p:cNvPicPr/>
          <p:nvPr/>
        </p:nvPicPr>
        <p:blipFill>
          <a:blip r:embed="rId2"/>
          <a:stretch/>
        </p:blipFill>
        <p:spPr>
          <a:xfrm>
            <a:off x="212760" y="1189080"/>
            <a:ext cx="8766000" cy="1378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150840" y="2276640"/>
            <a:ext cx="8597880" cy="4176720"/>
          </a:xfrm>
          <a:prstGeom prst="rect">
            <a:avLst/>
          </a:prstGeom>
          <a:ln w="0">
            <a:noFill/>
          </a:ln>
        </p:spPr>
      </p:pic>
      <p:sp>
        <p:nvSpPr>
          <p:cNvPr id="439" name="Téglalap 1"/>
          <p:cNvSpPr/>
          <p:nvPr/>
        </p:nvSpPr>
        <p:spPr>
          <a:xfrm>
            <a:off x="755640" y="6546960"/>
            <a:ext cx="71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 megálló kategóriák szerint, óránké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-1523880" y="47628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6199200" y="1341360"/>
            <a:ext cx="248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00000"/>
                </a:solidFill>
                <a:latin typeface="Arial"/>
                <a:ea typeface="Calibri"/>
              </a:rPr>
              <a:t>Előrebecslési módszer fejlesz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46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7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48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51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3" name="Text Box 4"/>
          <p:cNvSpPr/>
          <p:nvPr/>
        </p:nvSpPr>
        <p:spPr>
          <a:xfrm>
            <a:off x="79200" y="676440"/>
            <a:ext cx="852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Időjárási eseményekkel kapcsolato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közlekedésbiztonsági üzenetek forgalmi hat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artalom helye 2"/>
          <p:cNvSpPr/>
          <p:nvPr/>
        </p:nvSpPr>
        <p:spPr>
          <a:xfrm>
            <a:off x="30240" y="1125360"/>
            <a:ext cx="886284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utópályán kedvezőtlen időjárási körülmények esetén a változtatható jelzésképű táblán (VJT) megjelenített üzenetek forgalmi hatásainak (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  <a:ea typeface="Arial"/>
              </a:rPr>
              <a:t>forgalomlassítá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) elem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utópálya-üzemeltető forgalmi és meteorológiai adatainak elemzé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időjárási esemény előtti és utáni forgalmi vizsgálat, átlagképzés,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eltérő időjárási jellemzővel bíró időszakok összehasonlít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mérések két gyorsforgalmi úton, több helyszínen, két és három sávos szakaszok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különböző időjárási körülmények közötti vizsgálatok, különböző megjelenített jelzésképekk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1" descr=""/>
          <p:cNvPicPr/>
          <p:nvPr/>
        </p:nvPicPr>
        <p:blipFill>
          <a:blip r:embed="rId1"/>
          <a:stretch/>
        </p:blipFill>
        <p:spPr>
          <a:xfrm>
            <a:off x="-22320" y="4797360"/>
            <a:ext cx="5889600" cy="22129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5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61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3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64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4"/>
          <p:cNvSpPr/>
          <p:nvPr/>
        </p:nvSpPr>
        <p:spPr>
          <a:xfrm>
            <a:off x="79200" y="576360"/>
            <a:ext cx="852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Időjárási eseményekkel kapcsolato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közlekedésbiztonsági üzenetek forgalmi hat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artalom helye 2"/>
          <p:cNvSpPr/>
          <p:nvPr/>
        </p:nvSpPr>
        <p:spPr>
          <a:xfrm>
            <a:off x="-463680" y="1268280"/>
            <a:ext cx="9572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Két és három sávos szakaszokon  az egyes forgalmi sávokon a jelzésképek által kiváltott sebességcsökkené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14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5796000" cy="1998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8" descr=""/>
          <p:cNvPicPr/>
          <p:nvPr/>
        </p:nvPicPr>
        <p:blipFill>
          <a:blip r:embed="rId4"/>
          <a:stretch/>
        </p:blipFill>
        <p:spPr>
          <a:xfrm>
            <a:off x="4392720" y="1665360"/>
            <a:ext cx="5796000" cy="1341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6" descr=""/>
          <p:cNvPicPr/>
          <p:nvPr/>
        </p:nvPicPr>
        <p:blipFill>
          <a:blip r:embed="rId5"/>
          <a:stretch/>
        </p:blipFill>
        <p:spPr>
          <a:xfrm>
            <a:off x="4176720" y="3573360"/>
            <a:ext cx="5796000" cy="1360440"/>
          </a:xfrm>
          <a:prstGeom prst="rect">
            <a:avLst/>
          </a:prstGeom>
          <a:ln w="0">
            <a:noFill/>
          </a:ln>
        </p:spPr>
      </p:pic>
      <p:sp>
        <p:nvSpPr>
          <p:cNvPr id="471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églalap 2"/>
          <p:cNvSpPr/>
          <p:nvPr/>
        </p:nvSpPr>
        <p:spPr>
          <a:xfrm>
            <a:off x="1601640" y="2133720"/>
            <a:ext cx="8928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ódszert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redmény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tatás folytatá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zövegdoboz 21"/>
          <p:cNvSpPr/>
          <p:nvPr/>
        </p:nvSpPr>
        <p:spPr>
          <a:xfrm>
            <a:off x="2136600" y="198360"/>
            <a:ext cx="4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Csoportba foglalás 8"/>
          <p:cNvGrpSpPr/>
          <p:nvPr/>
        </p:nvGrpSpPr>
        <p:grpSpPr>
          <a:xfrm>
            <a:off x="2965320" y="193680"/>
            <a:ext cx="1420920" cy="337320"/>
            <a:chOff x="2965320" y="193680"/>
            <a:chExt cx="1420920" cy="337320"/>
          </a:xfrm>
        </p:grpSpPr>
        <p:sp>
          <p:nvSpPr>
            <p:cNvPr id="91" name="Sávnyíl 18"/>
            <p:cNvSpPr/>
            <p:nvPr/>
          </p:nvSpPr>
          <p:spPr>
            <a:xfrm>
              <a:off x="2965320" y="21744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zövegdoboz 19"/>
            <p:cNvSpPr/>
            <p:nvPr/>
          </p:nvSpPr>
          <p:spPr>
            <a:xfrm>
              <a:off x="3476520" y="19368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Csoportba foglalás 9"/>
          <p:cNvGrpSpPr/>
          <p:nvPr/>
        </p:nvGrpSpPr>
        <p:grpSpPr>
          <a:xfrm>
            <a:off x="4329000" y="196920"/>
            <a:ext cx="1420920" cy="337320"/>
            <a:chOff x="4329000" y="196920"/>
            <a:chExt cx="1420920" cy="337320"/>
          </a:xfrm>
        </p:grpSpPr>
        <p:sp>
          <p:nvSpPr>
            <p:cNvPr id="94" name="Sávnyíl 16"/>
            <p:cNvSpPr/>
            <p:nvPr/>
          </p:nvSpPr>
          <p:spPr>
            <a:xfrm>
              <a:off x="432900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Szövegdoboz 17"/>
            <p:cNvSpPr/>
            <p:nvPr/>
          </p:nvSpPr>
          <p:spPr>
            <a:xfrm>
              <a:off x="4840200" y="1969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Csoportba foglalás 10"/>
          <p:cNvGrpSpPr/>
          <p:nvPr/>
        </p:nvGrpSpPr>
        <p:grpSpPr>
          <a:xfrm>
            <a:off x="5688000" y="196920"/>
            <a:ext cx="1422360" cy="337320"/>
            <a:chOff x="5688000" y="196920"/>
            <a:chExt cx="1422360" cy="337320"/>
          </a:xfrm>
        </p:grpSpPr>
        <p:sp>
          <p:nvSpPr>
            <p:cNvPr id="97" name="Sávnyíl 14"/>
            <p:cNvSpPr/>
            <p:nvPr/>
          </p:nvSpPr>
          <p:spPr>
            <a:xfrm>
              <a:off x="5688000" y="220680"/>
              <a:ext cx="1422360" cy="27288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Szövegdoboz 15"/>
            <p:cNvSpPr/>
            <p:nvPr/>
          </p:nvSpPr>
          <p:spPr>
            <a:xfrm>
              <a:off x="6199200" y="1969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Sávnyíl 19"/>
          <p:cNvSpPr/>
          <p:nvPr/>
        </p:nvSpPr>
        <p:spPr>
          <a:xfrm>
            <a:off x="1601640" y="2192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noFill/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"/>
          <p:cNvSpPr/>
          <p:nvPr/>
        </p:nvSpPr>
        <p:spPr>
          <a:xfrm rot="16200000">
            <a:off x="5493600" y="3199320"/>
            <a:ext cx="69724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art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mobilitással kapcsolatos döntések típus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69720" y="1501920"/>
          <a:ext cx="8115480" cy="5356080"/>
        </p:xfrm>
        <a:graphic>
          <a:graphicData uri="http://schemas.openxmlformats.org/drawingml/2006/table">
            <a:tbl>
              <a:tblPr/>
              <a:tblGrid>
                <a:gridCol w="1179720"/>
                <a:gridCol w="3598920"/>
                <a:gridCol w="3336840"/>
              </a:tblGrid>
              <a:tr h="54288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neve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ír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döntések befolyásolásának mód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tudatformál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ntartható közlekedési módok nagyobb mértékű használatára való készteté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„lágy”, a környezetbarát és a közösségi mobilitási formák előnyeinek megismerte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atás, nevelés, rendezvények szervez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hosszú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óhely-választás, munkahely-választás (távmunka), egyéni gépjármű tulajdonlás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ás tanácsadók/koordinátorok, munkahelyi közlekedési tervek alkalmazása, car-pooling elterjedésének segí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közép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-sharing, bike-sharing tagság, közforgalmú közlekedésnél havi jegy vásárlás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lektív jellegű, statikus információkon alapuló tájékoztatás a közlekedési szolgáltatásokró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rövid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hez helyszín választása, útvonalválasztás, eszközválasztás, időpont (idősáv) meghatározása, csomagszállítás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mélyre szabott, az adott helyváltoztatáshoz kapcsolódó, dinamikus információkat is használó tájékoztatási (befolyásolási) form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pillanatnyi hatású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el- és leszálláshoz használt ajtó megválasztása, mozgólépcső, lift használata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lektív jellegű, dinamikus információkat is használó tájékoztatás a járművön és az utasforgalmi létesítményné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4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7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79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1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482" name="Téglalap 1"/>
          <p:cNvSpPr/>
          <p:nvPr/>
        </p:nvSpPr>
        <p:spPr>
          <a:xfrm>
            <a:off x="1155600" y="981000"/>
            <a:ext cx="68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lligens jármű, intelligens infrastruktúra 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– intelligens utazó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zövegdoboz 86"/>
          <p:cNvSpPr/>
          <p:nvPr/>
        </p:nvSpPr>
        <p:spPr>
          <a:xfrm>
            <a:off x="6956280" y="104472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 koncepció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8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9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493" name="Téglalap 2"/>
          <p:cNvSpPr/>
          <p:nvPr/>
        </p:nvSpPr>
        <p:spPr>
          <a:xfrm>
            <a:off x="201600" y="1197000"/>
            <a:ext cx="546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ntextus függ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alós idejű (előrebecsül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ultimodális (helyváltoztatási lánco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integráci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églalap 3"/>
          <p:cNvSpPr/>
          <p:nvPr/>
        </p:nvSpPr>
        <p:spPr>
          <a:xfrm>
            <a:off x="244440" y="3137040"/>
            <a:ext cx="81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különböző forrásokból származó (eltérő érvényességi idejű) adathalmazok egyesítése </a:t>
            </a:r>
            <a:r>
              <a:rPr b="0" lang="hu-HU" sz="1600" spc="-1" strike="noStrike" u="sng">
                <a:solidFill>
                  <a:srgbClr val="0070c0"/>
                </a:solidFill>
                <a:uFillTx/>
                <a:latin typeface="Arial"/>
              </a:rPr>
              <a:t>közösségi szinten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 és </a:t>
            </a:r>
            <a:r>
              <a:rPr b="0" lang="hu-HU" sz="1600" spc="-1" strike="noStrike" u="sng">
                <a:solidFill>
                  <a:srgbClr val="0070c0"/>
                </a:solidFill>
                <a:uFillTx/>
                <a:latin typeface="Arial"/>
              </a:rPr>
              <a:t>felhasználói 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szint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artalom helye 2"/>
          <p:cNvSpPr/>
          <p:nvPr/>
        </p:nvSpPr>
        <p:spPr>
          <a:xfrm>
            <a:off x="73080" y="4076640"/>
            <a:ext cx="8862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alkalmazás működési jellemzőinek meghatározása, a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Helyzet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Utazói igények feltár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iránymutató és elvárt jellemzők alapján a koncepció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éldaterületen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0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pic>
        <p:nvPicPr>
          <p:cNvPr id="505" name="Diagram 17" descr=""/>
          <p:cNvPicPr/>
          <p:nvPr/>
        </p:nvPicPr>
        <p:blipFill>
          <a:blip r:embed="rId3"/>
          <a:stretch/>
        </p:blipFill>
        <p:spPr>
          <a:xfrm>
            <a:off x="317520" y="2494080"/>
            <a:ext cx="8143920" cy="3962160"/>
          </a:xfrm>
          <a:prstGeom prst="rect">
            <a:avLst/>
          </a:prstGeom>
          <a:ln w="0">
            <a:noFill/>
          </a:ln>
        </p:spPr>
      </p:pic>
      <p:sp>
        <p:nvSpPr>
          <p:cNvPr id="506" name="Téglalap 1"/>
          <p:cNvSpPr/>
          <p:nvPr/>
        </p:nvSpPr>
        <p:spPr>
          <a:xfrm>
            <a:off x="171360" y="6550200"/>
            <a:ext cx="84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értékelő szempontok megjelenési gyakorisága a parkolást támogató alkalmazásokb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116000" y="1125360"/>
          <a:ext cx="6408720" cy="1366920"/>
        </p:xfrm>
        <a:graphic>
          <a:graphicData uri="http://schemas.openxmlformats.org/drawingml/2006/table">
            <a:tbl>
              <a:tblPr/>
              <a:tblGrid>
                <a:gridCol w="1062000"/>
                <a:gridCol w="1989360"/>
                <a:gridCol w="1169640"/>
                <a:gridCol w="2187720"/>
              </a:tblGrid>
              <a:tr h="2732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me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eo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en.neo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Me R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parkmeright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F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sfpark.org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st 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best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oice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voicepark.org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-up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entral 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s://find.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op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opedia.co.uk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iru.org/transpark-a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12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14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6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8" name="Object 5"/>
          <p:cNvGraphicFramePr/>
          <p:nvPr/>
        </p:nvGraphicFramePr>
        <p:xfrm>
          <a:off x="-185760" y="871560"/>
          <a:ext cx="9437760" cy="525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5760" y="871560"/>
                    <a:ext cx="94377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6"/>
          <p:cNvSpPr/>
          <p:nvPr/>
        </p:nvSpPr>
        <p:spPr>
          <a:xfrm>
            <a:off x="2376360" y="625968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parkolás tervező információs rendszer modellj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25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27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9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30" name="Téglalap 1"/>
          <p:cNvSpPr/>
          <p:nvPr/>
        </p:nvSpPr>
        <p:spPr>
          <a:xfrm>
            <a:off x="0" y="20811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put űrl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Kép 16" descr="D:\MSC_2013_10_22\tdk20131022\2013_10_31\mentett beállítások.jpg"/>
          <p:cNvPicPr/>
          <p:nvPr/>
        </p:nvPicPr>
        <p:blipFill>
          <a:blip r:embed="rId3"/>
          <a:srcRect l="0" t="0" r="0" b="44222"/>
          <a:stretch/>
        </p:blipFill>
        <p:spPr>
          <a:xfrm>
            <a:off x="1506600" y="836640"/>
            <a:ext cx="5981760" cy="3168720"/>
          </a:xfrm>
          <a:prstGeom prst="rect">
            <a:avLst/>
          </a:prstGeom>
          <a:ln w="0">
            <a:noFill/>
          </a:ln>
        </p:spPr>
      </p:pic>
      <p:pic>
        <p:nvPicPr>
          <p:cNvPr id="532" name="Kép 18" descr="D:\MSC_2013_10_22\tdk20131022\2013_10_31\javasolt parkolók.jpg"/>
          <p:cNvPicPr/>
          <p:nvPr/>
        </p:nvPicPr>
        <p:blipFill>
          <a:blip r:embed="rId4"/>
          <a:stretch/>
        </p:blipFill>
        <p:spPr>
          <a:xfrm>
            <a:off x="3076560" y="4059360"/>
            <a:ext cx="4357800" cy="2816280"/>
          </a:xfrm>
          <a:prstGeom prst="rect">
            <a:avLst/>
          </a:prstGeom>
          <a:ln w="0">
            <a:noFill/>
          </a:ln>
        </p:spPr>
      </p:pic>
      <p:sp>
        <p:nvSpPr>
          <p:cNvPr id="533" name="Téglalap 19"/>
          <p:cNvSpPr/>
          <p:nvPr/>
        </p:nvSpPr>
        <p:spPr>
          <a:xfrm>
            <a:off x="108000" y="546732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utput űrl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Kanyar felfelé 2"/>
          <p:cNvSpPr/>
          <p:nvPr/>
        </p:nvSpPr>
        <p:spPr>
          <a:xfrm rot="5400000">
            <a:off x="2000160" y="4057560"/>
            <a:ext cx="1239840" cy="992160"/>
          </a:xfrm>
          <a:custGeom>
            <a:avLst/>
            <a:gdLst/>
            <a:ahLst/>
            <a:rect l="l" t="t" r="r" b="b"/>
            <a:pathLst>
              <a:path w="1239838" h="992188">
                <a:moveTo>
                  <a:pt x="0" y="824171"/>
                </a:moveTo>
                <a:lnTo>
                  <a:pt x="907782" y="824171"/>
                </a:lnTo>
                <a:lnTo>
                  <a:pt x="907782" y="248047"/>
                </a:lnTo>
                <a:lnTo>
                  <a:pt x="743744" y="248047"/>
                </a:lnTo>
                <a:lnTo>
                  <a:pt x="991791" y="0"/>
                </a:lnTo>
                <a:lnTo>
                  <a:pt x="1239838" y="248047"/>
                </a:lnTo>
                <a:lnTo>
                  <a:pt x="1075800" y="248047"/>
                </a:lnTo>
                <a:lnTo>
                  <a:pt x="1075800" y="992188"/>
                </a:lnTo>
                <a:lnTo>
                  <a:pt x="0" y="992188"/>
                </a:lnTo>
                <a:lnTo>
                  <a:pt x="0" y="82417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3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4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4"/>
          <p:cNvSpPr/>
          <p:nvPr/>
        </p:nvSpPr>
        <p:spPr>
          <a:xfrm>
            <a:off x="171360" y="846000"/>
            <a:ext cx="824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kolási kereslet és kínálat valós idejű összerendelése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változó díjtételek alkalmazásáv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6" name="Object 6"/>
          <p:cNvGraphicFramePr/>
          <p:nvPr/>
        </p:nvGraphicFramePr>
        <p:xfrm>
          <a:off x="841320" y="1484280"/>
          <a:ext cx="7618320" cy="507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1484280"/>
                    <a:ext cx="761832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22"/>
          <p:cNvSpPr/>
          <p:nvPr/>
        </p:nvSpPr>
        <p:spPr>
          <a:xfrm>
            <a:off x="2556000" y="64533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lgoritmus vázl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2"/>
          <p:cNvSpPr/>
          <p:nvPr/>
        </p:nvSpPr>
        <p:spPr>
          <a:xfrm>
            <a:off x="316080" y="47628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53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55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7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58" name="Tartalom helye 2"/>
          <p:cNvSpPr/>
          <p:nvPr/>
        </p:nvSpPr>
        <p:spPr>
          <a:xfrm>
            <a:off x="28440" y="692280"/>
            <a:ext cx="8863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algoritmus egy minősítő számot határoz meg. Ez egy időalapú ellenállás érték, mely az </a:t>
            </a:r>
            <a:r>
              <a:rPr b="1" lang="hu-HU" sz="1600" spc="-1" strike="noStrike">
                <a:solidFill>
                  <a:srgbClr val="c00000"/>
                </a:solidFill>
                <a:latin typeface="Arial"/>
                <a:ea typeface="Arial"/>
              </a:rPr>
              <a:t>érzékelt idő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dja vissza a személyes beállítási lehetőségek alapj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Helyzetelemző eljárás kidolgozása - helyzet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Személyes beállítási szempontok meghatároz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 gyalogos objektumok jellemzőinek modelle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érzékelt időelemek számítási módszerének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éldaterületen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Téglalap 3" descr=""/>
          <p:cNvPicPr/>
          <p:nvPr/>
        </p:nvPicPr>
        <p:blipFill>
          <a:blip r:embed="rId3"/>
          <a:stretch/>
        </p:blipFill>
        <p:spPr>
          <a:xfrm>
            <a:off x="2786040" y="3627360"/>
            <a:ext cx="3346560" cy="395280"/>
          </a:xfrm>
          <a:prstGeom prst="rect">
            <a:avLst/>
          </a:prstGeom>
          <a:ln w="0">
            <a:noFill/>
          </a:ln>
        </p:spPr>
      </p:pic>
      <p:pic>
        <p:nvPicPr>
          <p:cNvPr id="561" name="Téglalap 4" descr=""/>
          <p:cNvPicPr/>
          <p:nvPr/>
        </p:nvPicPr>
        <p:blipFill>
          <a:blip r:embed="rId4"/>
          <a:stretch/>
        </p:blipFill>
        <p:spPr>
          <a:xfrm>
            <a:off x="3206880" y="4432320"/>
            <a:ext cx="3090600" cy="463680"/>
          </a:xfrm>
          <a:prstGeom prst="rect">
            <a:avLst/>
          </a:prstGeom>
          <a:ln w="0">
            <a:noFill/>
          </a:ln>
        </p:spPr>
      </p:pic>
      <p:pic>
        <p:nvPicPr>
          <p:cNvPr id="562" name="Téglalap 5" descr=""/>
          <p:cNvPicPr/>
          <p:nvPr/>
        </p:nvPicPr>
        <p:blipFill>
          <a:blip r:embed="rId5"/>
          <a:stretch/>
        </p:blipFill>
        <p:spPr>
          <a:xfrm>
            <a:off x="103320" y="5072040"/>
            <a:ext cx="8450280" cy="1236600"/>
          </a:xfrm>
          <a:prstGeom prst="rect">
            <a:avLst/>
          </a:prstGeom>
          <a:ln w="0">
            <a:noFill/>
          </a:ln>
        </p:spPr>
      </p:pic>
      <p:sp>
        <p:nvSpPr>
          <p:cNvPr id="563" name="Lefelé nyíl 6"/>
          <p:cNvSpPr/>
          <p:nvPr/>
        </p:nvSpPr>
        <p:spPr>
          <a:xfrm>
            <a:off x="3635280" y="4024440"/>
            <a:ext cx="150840" cy="40932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églalap 7"/>
          <p:cNvSpPr/>
          <p:nvPr/>
        </p:nvSpPr>
        <p:spPr>
          <a:xfrm>
            <a:off x="684360" y="63342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  <a:ea typeface="Arial"/>
              </a:rPr>
              <a:t>A tényezők több szintű kibontása, az összefüggések részletes felír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6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7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églalap 3"/>
          <p:cNvSpPr/>
          <p:nvPr/>
        </p:nvSpPr>
        <p:spPr>
          <a:xfrm>
            <a:off x="500040" y="628020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emélyre szabható beállítási lehetősége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7" name="Objektum 5"/>
          <p:cNvGraphicFramePr/>
          <p:nvPr/>
        </p:nvGraphicFramePr>
        <p:xfrm>
          <a:off x="220680" y="1136520"/>
          <a:ext cx="3811680" cy="453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ktum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680" y="1136520"/>
                    <a:ext cx="381168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0" name="Objektum 7"/>
          <p:cNvGraphicFramePr/>
          <p:nvPr/>
        </p:nvGraphicFramePr>
        <p:xfrm>
          <a:off x="4363920" y="1628640"/>
          <a:ext cx="4214880" cy="33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1" name="Objektum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3920" y="1628640"/>
                    <a:ext cx="42148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Téglalap 21"/>
          <p:cNvSpPr/>
          <p:nvPr/>
        </p:nvSpPr>
        <p:spPr>
          <a:xfrm>
            <a:off x="836640" y="567864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yaloglásná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églalap 22"/>
          <p:cNvSpPr/>
          <p:nvPr/>
        </p:nvSpPr>
        <p:spPr>
          <a:xfrm>
            <a:off x="5342040" y="573264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rakozásnál és járművö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2"/>
          <p:cNvSpPr/>
          <p:nvPr/>
        </p:nvSpPr>
        <p:spPr>
          <a:xfrm>
            <a:off x="179280" y="11592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églalap 21"/>
          <p:cNvSpPr/>
          <p:nvPr/>
        </p:nvSpPr>
        <p:spPr>
          <a:xfrm>
            <a:off x="1133640" y="448956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szerűsített folyamatá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églalap 22"/>
          <p:cNvSpPr/>
          <p:nvPr/>
        </p:nvSpPr>
        <p:spPr>
          <a:xfrm>
            <a:off x="1908000" y="6550200"/>
            <a:ext cx="366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űködést szemléltető folyamatá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1" name="Objektum 1"/>
          <p:cNvGraphicFramePr/>
          <p:nvPr/>
        </p:nvGraphicFramePr>
        <p:xfrm>
          <a:off x="4859280" y="25560"/>
          <a:ext cx="3862440" cy="68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ktum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560"/>
                    <a:ext cx="3862440" cy="68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Objektum 3"/>
          <p:cNvGraphicFramePr/>
          <p:nvPr/>
        </p:nvGraphicFramePr>
        <p:xfrm>
          <a:off x="0" y="2852640"/>
          <a:ext cx="529272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Objektum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852640"/>
                    <a:ext cx="529272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0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églalap 2"/>
          <p:cNvSpPr/>
          <p:nvPr/>
        </p:nvSpPr>
        <p:spPr>
          <a:xfrm>
            <a:off x="196920" y="655020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Arial"/>
              </a:rPr>
              <a:t>pontosabb, a valóságnak megfelelőbb eredmények érhetők el az algoritmus használatáv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églalap 8"/>
          <p:cNvSpPr/>
          <p:nvPr/>
        </p:nvSpPr>
        <p:spPr>
          <a:xfrm>
            <a:off x="165240" y="5278320"/>
            <a:ext cx="836280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lévő alkalmazások gyengeségei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belső területek ismeretének hiánya (jelen esetben az egyetemen belüli lehetséges mozgások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tró létesítményeiben történő gyaloglási idők, a mozgólépcsőn töltött többletidő figyelmen kívül hagyása 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térő gyaloglási sebességek használata a gyaloglási idő számításán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1" name="Objektum 10"/>
          <p:cNvGraphicFramePr/>
          <p:nvPr/>
        </p:nvGraphicFramePr>
        <p:xfrm>
          <a:off x="600120" y="890640"/>
          <a:ext cx="5873760" cy="429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ktum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120" y="890640"/>
                    <a:ext cx="58737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Téglalap 29"/>
          <p:cNvSpPr/>
          <p:nvPr/>
        </p:nvSpPr>
        <p:spPr>
          <a:xfrm>
            <a:off x="6651720" y="283068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űködés tesztelé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102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105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108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111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artalom helye 2"/>
          <p:cNvSpPr/>
          <p:nvPr/>
        </p:nvSpPr>
        <p:spPr>
          <a:xfrm>
            <a:off x="2525760" y="549360"/>
            <a:ext cx="59878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szervezett – nem szervezet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üzemeltetők és utazók közötti intenzív kétirányú információáramlá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helyváltoztatási láncok szervezése és lebonyolítás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információ – alapvető erőforrá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egyre kisebb ciklusidejű szabályozókörö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83"/>
          <p:cNvSpPr/>
          <p:nvPr/>
        </p:nvSpPr>
        <p:spPr>
          <a:xfrm>
            <a:off x="22320" y="4011480"/>
            <a:ext cx="1388880" cy="104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i</a:t>
            </a:r>
            <a:r>
              <a:rPr b="0" i="1" lang="de-DE" sz="1400" spc="-1" strike="noStrike">
                <a:solidFill>
                  <a:srgbClr val="191919"/>
                </a:solidFill>
                <a:latin typeface="Arial"/>
                <a:ea typeface="Calibri"/>
              </a:rPr>
              <a:t>nformációs folyamat visszahat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3"/>
          <p:cNvSpPr/>
          <p:nvPr/>
        </p:nvSpPr>
        <p:spPr>
          <a:xfrm>
            <a:off x="6958080" y="4110120"/>
            <a:ext cx="1357200" cy="112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a</a:t>
            </a:r>
            <a:r>
              <a:rPr b="0" i="1" lang="de-DE" sz="1400" spc="-1" strike="noStrike">
                <a:solidFill>
                  <a:srgbClr val="191919"/>
                </a:solidFill>
                <a:latin typeface="Arial"/>
                <a:ea typeface="Calibri"/>
              </a:rPr>
              <a:t>lap</a:t>
            </a: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rendszer leképezé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52"/>
          <p:cNvSpPr/>
          <p:nvPr/>
        </p:nvSpPr>
        <p:spPr>
          <a:xfrm>
            <a:off x="1703520" y="5089680"/>
            <a:ext cx="4570200" cy="1152360"/>
          </a:xfrm>
          <a:prstGeom prst="parallelogram">
            <a:avLst>
              <a:gd name="adj" fmla="val 89638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53"/>
          <p:cNvSpPr/>
          <p:nvPr/>
        </p:nvSpPr>
        <p:spPr>
          <a:xfrm>
            <a:off x="5130720" y="5210280"/>
            <a:ext cx="533520" cy="239760"/>
          </a:xfrm>
          <a:custGeom>
            <a:avLst/>
            <a:gdLst>
              <a:gd name="textAreaLeft" fmla="*/ 121680 w 533520"/>
              <a:gd name="textAreaRight" fmla="*/ 411840 w 533520"/>
              <a:gd name="textAreaTop" fmla="*/ 54720 h 239760"/>
              <a:gd name="textAreaBottom" fmla="*/ 1850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54"/>
          <p:cNvSpPr/>
          <p:nvPr/>
        </p:nvSpPr>
        <p:spPr>
          <a:xfrm>
            <a:off x="5418000" y="4675320"/>
            <a:ext cx="648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55"/>
          <p:cNvSpPr/>
          <p:nvPr/>
        </p:nvSpPr>
        <p:spPr>
          <a:xfrm flipH="1">
            <a:off x="5208480" y="4888080"/>
            <a:ext cx="1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57"/>
          <p:cNvSpPr/>
          <p:nvPr/>
        </p:nvSpPr>
        <p:spPr>
          <a:xfrm>
            <a:off x="3300480" y="4079880"/>
            <a:ext cx="1380960" cy="762120"/>
          </a:xfrm>
          <a:prstGeom prst="cube">
            <a:avLst>
              <a:gd name="adj" fmla="val 25000"/>
            </a:avLst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333333"/>
                </a:solidFill>
                <a:latin typeface="Arial"/>
                <a:ea typeface="Calibri"/>
              </a:rPr>
              <a:t>i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  <a:ea typeface="Calibri"/>
              </a:rPr>
              <a:t>nformációs végberendez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63"/>
          <p:cNvSpPr/>
          <p:nvPr/>
        </p:nvSpPr>
        <p:spPr>
          <a:xfrm>
            <a:off x="4089240" y="370188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64"/>
          <p:cNvSpPr/>
          <p:nvPr/>
        </p:nvSpPr>
        <p:spPr>
          <a:xfrm flipH="1">
            <a:off x="5316120" y="4888080"/>
            <a:ext cx="10332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65"/>
          <p:cNvSpPr/>
          <p:nvPr/>
        </p:nvSpPr>
        <p:spPr>
          <a:xfrm>
            <a:off x="5419800" y="4888080"/>
            <a:ext cx="10620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66"/>
          <p:cNvSpPr/>
          <p:nvPr/>
        </p:nvSpPr>
        <p:spPr>
          <a:xfrm flipH="1">
            <a:off x="5208480" y="5310360"/>
            <a:ext cx="1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67"/>
          <p:cNvSpPr/>
          <p:nvPr/>
        </p:nvSpPr>
        <p:spPr>
          <a:xfrm flipH="1">
            <a:off x="5419440" y="5310360"/>
            <a:ext cx="106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68"/>
          <p:cNvSpPr/>
          <p:nvPr/>
        </p:nvSpPr>
        <p:spPr>
          <a:xfrm>
            <a:off x="5419800" y="4675320"/>
            <a:ext cx="10620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69"/>
          <p:cNvSpPr/>
          <p:nvPr/>
        </p:nvSpPr>
        <p:spPr>
          <a:xfrm flipH="1">
            <a:off x="5419440" y="4888080"/>
            <a:ext cx="106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70"/>
          <p:cNvSpPr/>
          <p:nvPr/>
        </p:nvSpPr>
        <p:spPr>
          <a:xfrm flipH="1">
            <a:off x="5316120" y="4675320"/>
            <a:ext cx="10332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71"/>
          <p:cNvSpPr/>
          <p:nvPr/>
        </p:nvSpPr>
        <p:spPr>
          <a:xfrm>
            <a:off x="5316480" y="4462560"/>
            <a:ext cx="209520" cy="2127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72"/>
          <p:cNvSpPr/>
          <p:nvPr/>
        </p:nvSpPr>
        <p:spPr>
          <a:xfrm rot="647400">
            <a:off x="4681080" y="4361040"/>
            <a:ext cx="606600" cy="214200"/>
          </a:xfrm>
          <a:prstGeom prst="leftRightArrow">
            <a:avLst>
              <a:gd name="adj1" fmla="val 50000"/>
              <a:gd name="adj2" fmla="val 68805"/>
            </a:avLst>
          </a:prstGeom>
          <a:solidFill>
            <a:srgbClr val="5789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73"/>
          <p:cNvSpPr/>
          <p:nvPr/>
        </p:nvSpPr>
        <p:spPr>
          <a:xfrm>
            <a:off x="3740040" y="5210280"/>
            <a:ext cx="568440" cy="239760"/>
          </a:xfrm>
          <a:custGeom>
            <a:avLst/>
            <a:gdLst>
              <a:gd name="textAreaLeft" fmla="*/ 129600 w 568440"/>
              <a:gd name="textAreaRight" fmla="*/ 438840 w 568440"/>
              <a:gd name="textAreaTop" fmla="*/ 54720 h 239760"/>
              <a:gd name="textAreaBottom" fmla="*/ 1850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74"/>
          <p:cNvSpPr/>
          <p:nvPr/>
        </p:nvSpPr>
        <p:spPr>
          <a:xfrm>
            <a:off x="4361040" y="5834160"/>
            <a:ext cx="514080" cy="249120"/>
          </a:xfrm>
          <a:custGeom>
            <a:avLst/>
            <a:gdLst>
              <a:gd name="textAreaLeft" fmla="*/ 117360 w 514080"/>
              <a:gd name="textAreaRight" fmla="*/ 396720 w 514080"/>
              <a:gd name="textAreaTop" fmla="*/ 56880 h 249120"/>
              <a:gd name="textAreaBottom" fmla="*/ 192240 h 24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75"/>
          <p:cNvSpPr/>
          <p:nvPr/>
        </p:nvSpPr>
        <p:spPr>
          <a:xfrm>
            <a:off x="2397240" y="5310360"/>
            <a:ext cx="477720" cy="241200"/>
          </a:xfrm>
          <a:custGeom>
            <a:avLst/>
            <a:gdLst>
              <a:gd name="textAreaLeft" fmla="*/ 109080 w 477720"/>
              <a:gd name="textAreaRight" fmla="*/ 368640 w 47772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76"/>
          <p:cNvSpPr/>
          <p:nvPr/>
        </p:nvSpPr>
        <p:spPr>
          <a:xfrm>
            <a:off x="2467080" y="5937120"/>
            <a:ext cx="441360" cy="292320"/>
          </a:xfrm>
          <a:custGeom>
            <a:avLst/>
            <a:gdLst>
              <a:gd name="textAreaLeft" fmla="*/ 100800 w 441360"/>
              <a:gd name="textAreaRight" fmla="*/ 340560 w 441360"/>
              <a:gd name="textAreaTop" fmla="*/ 66600 h 292320"/>
              <a:gd name="textAreaBottom" fmla="*/ 22572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AutoShape 78"/>
          <p:cNvCxnSpPr/>
          <p:nvPr/>
        </p:nvCxnSpPr>
        <p:spPr>
          <a:xfrm flipH="1">
            <a:off x="4308120" y="5311800"/>
            <a:ext cx="900720" cy="1800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7" name="AutoShape 79"/>
          <p:cNvCxnSpPr/>
          <p:nvPr/>
        </p:nvCxnSpPr>
        <p:spPr>
          <a:xfrm>
            <a:off x="4024080" y="5449680"/>
            <a:ext cx="594360" cy="38484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8" name="AutoShape 80"/>
          <p:cNvCxnSpPr/>
          <p:nvPr/>
        </p:nvCxnSpPr>
        <p:spPr>
          <a:xfrm flipH="1" flipV="1">
            <a:off x="2874600" y="5430600"/>
            <a:ext cx="1486800" cy="52776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9" name="AutoShape 81"/>
          <p:cNvCxnSpPr/>
          <p:nvPr/>
        </p:nvCxnSpPr>
        <p:spPr>
          <a:xfrm>
            <a:off x="2633760" y="5551200"/>
            <a:ext cx="56160" cy="3862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0" name="AutoShape 56"/>
          <p:cNvSpPr/>
          <p:nvPr/>
        </p:nvSpPr>
        <p:spPr>
          <a:xfrm>
            <a:off x="1704960" y="2662200"/>
            <a:ext cx="4572000" cy="1060560"/>
          </a:xfrm>
          <a:prstGeom prst="parallelogram">
            <a:avLst>
              <a:gd name="adj" fmla="val 96517"/>
            </a:avLst>
          </a:prstGeom>
          <a:solidFill>
            <a:srgbClr val="92d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9"/>
          <p:cNvSpPr/>
          <p:nvPr/>
        </p:nvSpPr>
        <p:spPr>
          <a:xfrm>
            <a:off x="1606680" y="1989000"/>
            <a:ext cx="47718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91919"/>
                </a:solidFill>
                <a:latin typeface="Arial"/>
                <a:ea typeface="Calibri"/>
              </a:rPr>
              <a:t>Telematikai alrendszer</a:t>
            </a:r>
            <a:br>
              <a:rPr sz="1600"/>
            </a:br>
            <a:r>
              <a:rPr b="1" lang="hu-HU" sz="1600" spc="-1" strike="noStrike">
                <a:solidFill>
                  <a:srgbClr val="191919"/>
                </a:solidFill>
                <a:latin typeface="Arial"/>
                <a:ea typeface="Calibri"/>
              </a:rPr>
              <a:t> – </a:t>
            </a:r>
            <a:r>
              <a:rPr b="0" lang="hu-HU" sz="1600" spc="-1" strike="noStrike">
                <a:solidFill>
                  <a:srgbClr val="191919"/>
                </a:solidFill>
                <a:latin typeface="Arial"/>
                <a:ea typeface="Calibri"/>
              </a:rPr>
              <a:t>számítógép hálózat és adattovábbítás</a:t>
            </a:r>
            <a:r>
              <a:rPr b="0" lang="de-DE" sz="1600" spc="-1" strike="noStrike">
                <a:solidFill>
                  <a:srgbClr val="191919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Szögletes összekötő 7180"/>
          <p:cNvCxnSpPr/>
          <p:nvPr/>
        </p:nvCxnSpPr>
        <p:spPr>
          <a:xfrm rot="10800000">
            <a:off x="2907720" y="4461840"/>
            <a:ext cx="2223000" cy="16092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143" name="Egyenes összekötő nyíllal 7182"/>
          <p:cNvCxnSpPr/>
          <p:nvPr/>
        </p:nvCxnSpPr>
        <p:spPr>
          <a:xfrm>
            <a:off x="8667720" y="2133360"/>
            <a:ext cx="8640" cy="4323240"/>
          </a:xfrm>
          <a:prstGeom prst="straightConnector1">
            <a:avLst/>
          </a:prstGeom>
          <a:ln w="25560">
            <a:solidFill>
              <a:srgbClr val="191919"/>
            </a:solidFill>
            <a:miter/>
            <a:headEnd len="med" type="oval" w="med"/>
            <a:tailEnd len="med" type="oval" w="med"/>
          </a:ln>
        </p:spPr>
      </p:cxnSp>
      <p:sp>
        <p:nvSpPr>
          <p:cNvPr id="144" name="Szövegdoboz 7185"/>
          <p:cNvSpPr/>
          <p:nvPr/>
        </p:nvSpPr>
        <p:spPr>
          <a:xfrm rot="16200000">
            <a:off x="6013080" y="401508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191919"/>
                </a:solidFill>
                <a:latin typeface="Arial"/>
              </a:rPr>
              <a:t>KÖZLEKEDÉSI REN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gyenes összekötő 47"/>
          <p:cNvSpPr/>
          <p:nvPr/>
        </p:nvSpPr>
        <p:spPr>
          <a:xfrm flipH="1">
            <a:off x="1452600" y="3083040"/>
            <a:ext cx="874800" cy="324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gyenes összekötő 48"/>
          <p:cNvSpPr/>
          <p:nvPr/>
        </p:nvSpPr>
        <p:spPr>
          <a:xfrm>
            <a:off x="1452600" y="3083040"/>
            <a:ext cx="0" cy="258264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Egyenes összekötő nyíllal 49"/>
          <p:cNvCxnSpPr>
            <a:endCxn id="117" idx="5"/>
          </p:cNvCxnSpPr>
          <p:nvPr/>
        </p:nvCxnSpPr>
        <p:spPr>
          <a:xfrm flipV="1">
            <a:off x="1452240" y="5665320"/>
            <a:ext cx="786600" cy="15120"/>
          </a:xfrm>
          <a:prstGeom prst="straightConnector1">
            <a:avLst/>
          </a:prstGeom>
          <a:ln w="19080">
            <a:solidFill>
              <a:srgbClr val="191919"/>
            </a:solidFill>
            <a:prstDash val="sysDot"/>
            <a:miter/>
            <a:tailEnd len="lg" type="triangle" w="lg"/>
          </a:ln>
        </p:spPr>
      </p:cxnSp>
      <p:sp>
        <p:nvSpPr>
          <p:cNvPr id="148" name="Egyenes összekötő 50"/>
          <p:cNvSpPr/>
          <p:nvPr/>
        </p:nvSpPr>
        <p:spPr>
          <a:xfrm flipH="1" flipV="1">
            <a:off x="5738400" y="5665680"/>
            <a:ext cx="1243080" cy="1440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gyenes összekötő 51"/>
          <p:cNvSpPr/>
          <p:nvPr/>
        </p:nvSpPr>
        <p:spPr>
          <a:xfrm>
            <a:off x="6981840" y="3098880"/>
            <a:ext cx="0" cy="258120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Egyenes összekötő nyíllal 52"/>
          <p:cNvCxnSpPr/>
          <p:nvPr/>
        </p:nvCxnSpPr>
        <p:spPr>
          <a:xfrm flipH="1">
            <a:off x="5866920" y="3098520"/>
            <a:ext cx="1115280" cy="1080"/>
          </a:xfrm>
          <a:prstGeom prst="straightConnector1">
            <a:avLst/>
          </a:prstGeom>
          <a:ln w="19080">
            <a:solidFill>
              <a:srgbClr val="191919"/>
            </a:solidFill>
            <a:prstDash val="sysDot"/>
            <a:miter/>
            <a:tailEnd len="lg" type="triangle" w="lg"/>
          </a:ln>
        </p:spPr>
      </p:cxnSp>
      <p:sp>
        <p:nvSpPr>
          <p:cNvPr id="151" name="Felhő 30"/>
          <p:cNvSpPr/>
          <p:nvPr/>
        </p:nvSpPr>
        <p:spPr>
          <a:xfrm>
            <a:off x="5934240" y="3311640"/>
            <a:ext cx="922320" cy="988920"/>
          </a:xfrm>
          <a:prstGeom prst="cloudCallout">
            <a:avLst>
              <a:gd name="adj1" fmla="val -99555"/>
              <a:gd name="adj2" fmla="val 6494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zövegdoboz 54"/>
          <p:cNvSpPr/>
          <p:nvPr/>
        </p:nvSpPr>
        <p:spPr>
          <a:xfrm>
            <a:off x="5929200" y="3459240"/>
            <a:ext cx="90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191919"/>
                </a:solidFill>
                <a:latin typeface="Arial"/>
              </a:rPr>
              <a:t>hogyan közleked-jünk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lyamatábra: Mágneslemez 55"/>
          <p:cNvSpPr/>
          <p:nvPr/>
        </p:nvSpPr>
        <p:spPr>
          <a:xfrm>
            <a:off x="2908440" y="2911320"/>
            <a:ext cx="220680" cy="27972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lyamatábra: Mágneslemez 56"/>
          <p:cNvSpPr/>
          <p:nvPr/>
        </p:nvSpPr>
        <p:spPr>
          <a:xfrm>
            <a:off x="4037040" y="2819520"/>
            <a:ext cx="220680" cy="28080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lyamatábra: Mágneslemez 57"/>
          <p:cNvSpPr/>
          <p:nvPr/>
        </p:nvSpPr>
        <p:spPr>
          <a:xfrm>
            <a:off x="4681440" y="2813040"/>
            <a:ext cx="222480" cy="28116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yamatábra: Mágneslemez 58"/>
          <p:cNvSpPr/>
          <p:nvPr/>
        </p:nvSpPr>
        <p:spPr>
          <a:xfrm>
            <a:off x="3352680" y="3298680"/>
            <a:ext cx="220680" cy="27972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lyamatábra: Mágneslemez 59"/>
          <p:cNvSpPr/>
          <p:nvPr/>
        </p:nvSpPr>
        <p:spPr>
          <a:xfrm>
            <a:off x="4100400" y="3344760"/>
            <a:ext cx="220680" cy="28116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lyamatábra: Mágneslemez 60"/>
          <p:cNvSpPr/>
          <p:nvPr/>
        </p:nvSpPr>
        <p:spPr>
          <a:xfrm>
            <a:off x="5245200" y="3048120"/>
            <a:ext cx="220680" cy="28080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gyenes összekötő 61"/>
          <p:cNvSpPr/>
          <p:nvPr/>
        </p:nvSpPr>
        <p:spPr>
          <a:xfrm flipV="1">
            <a:off x="3129120" y="2960280"/>
            <a:ext cx="907920" cy="9036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gyenes összekötő 62"/>
          <p:cNvSpPr/>
          <p:nvPr/>
        </p:nvSpPr>
        <p:spPr>
          <a:xfrm flipV="1">
            <a:off x="4321080" y="3094200"/>
            <a:ext cx="473040" cy="39024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gyenes összekötő 63"/>
          <p:cNvSpPr/>
          <p:nvPr/>
        </p:nvSpPr>
        <p:spPr>
          <a:xfrm>
            <a:off x="4145040" y="3100320"/>
            <a:ext cx="66600" cy="24444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gyenes összekötő 64"/>
          <p:cNvSpPr/>
          <p:nvPr/>
        </p:nvSpPr>
        <p:spPr>
          <a:xfrm>
            <a:off x="4903920" y="3051000"/>
            <a:ext cx="341280" cy="13680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gyenes összekötő 65"/>
          <p:cNvSpPr/>
          <p:nvPr/>
        </p:nvSpPr>
        <p:spPr>
          <a:xfrm flipH="1">
            <a:off x="3581280" y="3484440"/>
            <a:ext cx="519120" cy="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235080" y="1219320"/>
            <a:ext cx="20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50021"/>
                </a:solidFill>
                <a:latin typeface="Arial"/>
              </a:rPr>
              <a:t>áramlási ter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églalap 19"/>
          <p:cNvSpPr/>
          <p:nvPr/>
        </p:nvSpPr>
        <p:spPr>
          <a:xfrm>
            <a:off x="-779400" y="6483240"/>
            <a:ext cx="54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rendszer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églalap 1"/>
          <p:cNvSpPr/>
          <p:nvPr/>
        </p:nvSpPr>
        <p:spPr>
          <a:xfrm>
            <a:off x="3780000" y="6251400"/>
            <a:ext cx="492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Forrás: Válóczi Dénes - Csiszár Csaba:  Telematikai rendszerekkel támogatott intermodális csomópontok.</a:t>
            </a:r>
            <a:br>
              <a:rPr sz="1200"/>
            </a:b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Városi Közlekedés. LI. évf. 3-4.szám 207-214.o. Budapest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1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2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Téglalap 8" descr=""/>
          <p:cNvPicPr/>
          <p:nvPr/>
        </p:nvPicPr>
        <p:blipFill>
          <a:blip r:embed="rId3"/>
          <a:stretch/>
        </p:blipFill>
        <p:spPr>
          <a:xfrm>
            <a:off x="165240" y="1474920"/>
            <a:ext cx="8362800" cy="6886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208080" y="836640"/>
            <a:ext cx="843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izikai jellemzőktől és a személyes preferenciáktól függő, időben változó közösségi közlekedési hálózati gráf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Objektum 4" descr=""/>
          <p:cNvPicPr/>
          <p:nvPr/>
        </p:nvPicPr>
        <p:blipFill>
          <a:blip r:embed="rId4"/>
          <a:stretch/>
        </p:blipFill>
        <p:spPr>
          <a:xfrm>
            <a:off x="5383080" y="2124000"/>
            <a:ext cx="3402000" cy="1405080"/>
          </a:xfrm>
          <a:prstGeom prst="rect">
            <a:avLst/>
          </a:prstGeom>
          <a:ln w="0">
            <a:noFill/>
          </a:ln>
        </p:spPr>
      </p:pic>
      <p:pic>
        <p:nvPicPr>
          <p:cNvPr id="630" name="Szövegdoboz 6" descr=""/>
          <p:cNvPicPr/>
          <p:nvPr/>
        </p:nvPicPr>
        <p:blipFill>
          <a:blip r:embed="rId5"/>
          <a:stretch/>
        </p:blipFill>
        <p:spPr>
          <a:xfrm>
            <a:off x="328680" y="2279520"/>
            <a:ext cx="3882960" cy="1427400"/>
          </a:xfrm>
          <a:prstGeom prst="rect">
            <a:avLst/>
          </a:prstGeom>
          <a:ln w="0">
            <a:noFill/>
          </a:ln>
        </p:spPr>
      </p:pic>
      <p:sp>
        <p:nvSpPr>
          <p:cNvPr id="631" name="Téglalap 8"/>
          <p:cNvSpPr/>
          <p:nvPr/>
        </p:nvSpPr>
        <p:spPr>
          <a:xfrm>
            <a:off x="88920" y="3429000"/>
            <a:ext cx="836280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álózati modell építése - részgráfok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akro: közösségi közlekedési hálózat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ezo: átszállási helyek, intermodális csomópontok gyalogos hálóz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ikro: utasforgalmi létesítmények belső hálóza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gyaloglás mind a mezo, mind a mikro gráfban is megtalálh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várakozási idő hozzárendelése - csúc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A csúcsok, élek és azok tulajdonságainak modelle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Többszintű gráf – a különböző személyközlekedési</a:t>
            </a:r>
            <a:br>
              <a:rPr sz="1600"/>
            </a:b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módokra kiterjeszt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Dinamizmus – a gráf elemei és az elemek tulajdonságai</a:t>
            </a:r>
            <a:br>
              <a:rPr sz="1600"/>
            </a:b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 is változnak az idő függvényéb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5700600" y="4869000"/>
          <a:ext cx="2827440" cy="1627200"/>
        </p:xfrm>
        <a:graphic>
          <a:graphicData uri="http://schemas.openxmlformats.org/drawingml/2006/table">
            <a:tbl>
              <a:tblPr/>
              <a:tblGrid>
                <a:gridCol w="685800"/>
                <a:gridCol w="714600"/>
                <a:gridCol w="712800"/>
                <a:gridCol w="714240"/>
              </a:tblGrid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Object 2" descr=""/>
          <p:cNvPicPr/>
          <p:nvPr/>
        </p:nvPicPr>
        <p:blipFill>
          <a:blip r:embed="rId1"/>
          <a:stretch/>
        </p:blipFill>
        <p:spPr>
          <a:xfrm>
            <a:off x="250920" y="520560"/>
            <a:ext cx="8497800" cy="633276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 -  hálózati grá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3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4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2" name="Csoportba foglalás 26" descr=""/>
          <p:cNvPicPr/>
          <p:nvPr/>
        </p:nvPicPr>
        <p:blipFill>
          <a:blip r:embed="rId3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51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53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5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églalap 8"/>
          <p:cNvSpPr/>
          <p:nvPr/>
        </p:nvSpPr>
        <p:spPr>
          <a:xfrm>
            <a:off x="88920" y="1052640"/>
            <a:ext cx="83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Utazók hosszú távú döntéseinek befolyásol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2" name="Object 2"/>
          <p:cNvGraphicFramePr/>
          <p:nvPr/>
        </p:nvGraphicFramePr>
        <p:xfrm>
          <a:off x="-1476360" y="1484280"/>
          <a:ext cx="7632720" cy="481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76360" y="1484280"/>
                    <a:ext cx="76327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Rectangle 3"/>
          <p:cNvSpPr/>
          <p:nvPr/>
        </p:nvSpPr>
        <p:spPr>
          <a:xfrm>
            <a:off x="-828720" y="62596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Személygépkocsik kapacitás kihasználás növelésének módja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églalap 8"/>
          <p:cNvSpPr/>
          <p:nvPr/>
        </p:nvSpPr>
        <p:spPr>
          <a:xfrm>
            <a:off x="4695840" y="2492280"/>
            <a:ext cx="4340160" cy="29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egy új rendszer bevezetése (meglévő bővítése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utazási igény modell (eszközválasztás modellezése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telepítési helyszínek megválasztásának módszere (a bővítés fokozatossága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járműpark meghatározásának módsz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szolgáltatási jellemzők meghatározásának módsz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üzleti model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7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7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églalap 8"/>
          <p:cNvSpPr/>
          <p:nvPr/>
        </p:nvSpPr>
        <p:spPr>
          <a:xfrm>
            <a:off x="5848200" y="10526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mpenzált multikritériumos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2" name="Object 4"/>
          <p:cNvGraphicFramePr/>
          <p:nvPr/>
        </p:nvGraphicFramePr>
        <p:xfrm>
          <a:off x="-166680" y="977760"/>
          <a:ext cx="6610320" cy="588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66680" y="977760"/>
                    <a:ext cx="6610320" cy="58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Rectangle 5"/>
          <p:cNvSpPr/>
          <p:nvPr/>
        </p:nvSpPr>
        <p:spPr>
          <a:xfrm>
            <a:off x="4788000" y="5068800"/>
            <a:ext cx="4211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A. az egyes felhasználók preferenciáinak ismerete nélkül, az egyes városrészekre vonatkozóan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(házszám pontosságg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B. az előzőt kiegészítve az egyes felhasználók preferenciáinak és tartózkodási helyének ismeretében személyre szabot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8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9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9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1" name="Object 7"/>
          <p:cNvGraphicFramePr/>
          <p:nvPr/>
        </p:nvGraphicFramePr>
        <p:xfrm>
          <a:off x="304920" y="1197000"/>
          <a:ext cx="7146720" cy="554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197000"/>
                    <a:ext cx="714672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8"/>
          <p:cNvSpPr/>
          <p:nvPr/>
        </p:nvSpPr>
        <p:spPr>
          <a:xfrm>
            <a:off x="179280" y="630072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kiszolgálási minőséghez tartozó ismérvek hatása az elvárásokra és a kapcsolat erőssé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0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1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8"/>
          <p:cNvSpPr/>
          <p:nvPr/>
        </p:nvSpPr>
        <p:spPr>
          <a:xfrm>
            <a:off x="179280" y="90792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módszertan alkalmazása Budapes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Kép 7" descr=""/>
          <p:cNvPicPr/>
          <p:nvPr/>
        </p:nvPicPr>
        <p:blipFill>
          <a:blip r:embed="rId3"/>
          <a:stretch/>
        </p:blipFill>
        <p:spPr>
          <a:xfrm>
            <a:off x="1598760" y="1278000"/>
            <a:ext cx="5494320" cy="423864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"/>
          <p:cNvSpPr/>
          <p:nvPr/>
        </p:nvSpPr>
        <p:spPr>
          <a:xfrm>
            <a:off x="806400" y="5661000"/>
            <a:ext cx="74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Q értékének változása a térben a vizsgált területen, középen az állomáss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églalap 8"/>
          <p:cNvSpPr/>
          <p:nvPr/>
        </p:nvSpPr>
        <p:spPr>
          <a:xfrm>
            <a:off x="385920" y="6330960"/>
            <a:ext cx="83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Arial"/>
              </a:rPr>
              <a:t>Térben, időben és személyenként változó érzékelt szolgáltatási minősé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Kutatás folytat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ávnyíl 17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2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30" name="Sávnyíl 2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733" name="Sávnyíl 2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5" name="Tartalom helye 2"/>
          <p:cNvSpPr/>
          <p:nvPr/>
        </p:nvSpPr>
        <p:spPr>
          <a:xfrm>
            <a:off x="109440" y="620640"/>
            <a:ext cx="85075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datforr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arkoló létesítmények real-time kihasználtsági adat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perációkutatás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ptimalizálás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öntés-előkészítő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bányászat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modellezés módszerek – formális leíró nyelvek, ontológ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sterséges intelligencia módszerek </a:t>
            </a:r>
            <a:r>
              <a:rPr b="0" i="1" lang="hu-HU" sz="1600" spc="-1" strike="noStrike">
                <a:solidFill>
                  <a:srgbClr val="000000"/>
                </a:solidFill>
                <a:latin typeface="Calibri"/>
                <a:ea typeface="Calibri"/>
              </a:rPr>
              <a:t>ember-gépi ren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daptive (alkalmazkod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earning (tanul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ognitiv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Calibri"/>
              </a:rPr>
              <a:t> (megismerő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zgazdasági elemző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utatási partner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ME – VIK, Hálózati Rendszerek és Szolgáltatások Tanszé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ME – TTK, Matematika Intézet, Differenciálegyenletek Tanszék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Kutatás folytat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ávnyíl 17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4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42" name="Sávnyíl 2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745" name="Sávnyíl 2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7" name="Tartalom helye 2"/>
          <p:cNvSpPr/>
          <p:nvPr/>
        </p:nvSpPr>
        <p:spPr>
          <a:xfrm>
            <a:off x="108000" y="1413000"/>
            <a:ext cx="88423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zemélyközlekedési hálózati modell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építés folytatása -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függvénye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határ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különös tekintettel az intermodális csomópontokra és parkolókr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elyváltoztatási döntések modellezése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a közlekedési hálózat, a helyváltoztatási módok és a személyes jellemzők analízise alapj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ülönböző időtávú döntése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álózatmenedzsment intézkedése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fogalma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forgalmi és információs műveletek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églalap 1"/>
          <p:cNvSpPr/>
          <p:nvPr/>
        </p:nvSpPr>
        <p:spPr>
          <a:xfrm>
            <a:off x="108000" y="5157720"/>
            <a:ext cx="892800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személyközlekedési komplex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nformációs rendszer elemzési, értékelési módsze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ének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376092"/>
                </a:solidFill>
                <a:latin typeface="Arial"/>
              </a:rPr>
              <a:t>cél, funkció, szervezet, alrendszer, ada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zötti kapcsolatrendszer feltárása,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         modellezé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9" name="Object 2"/>
          <p:cNvGraphicFramePr/>
          <p:nvPr/>
        </p:nvGraphicFramePr>
        <p:xfrm>
          <a:off x="839880" y="2637000"/>
          <a:ext cx="7388280" cy="51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2637000"/>
                    <a:ext cx="73882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 Box 3"/>
          <p:cNvSpPr/>
          <p:nvPr/>
        </p:nvSpPr>
        <p:spPr>
          <a:xfrm>
            <a:off x="152280" y="198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3399"/>
                </a:solidFill>
                <a:latin typeface="Calibri"/>
              </a:rPr>
              <a:t>KÖSZÖNÖM A MEGTISZTELŐ FIGYELMET </a:t>
            </a: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artalom helye 2"/>
          <p:cNvSpPr/>
          <p:nvPr/>
        </p:nvSpPr>
        <p:spPr>
          <a:xfrm>
            <a:off x="539640" y="1052640"/>
            <a:ext cx="8075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ÁMOP-4.2.2.C-11/1/KONV-2012-0012: "Smarter Transport" - Kooperatív közlekedési rendszerek infokommunikációs támogatása - A projekt a Magyar Állam és az Európai Unió támogatásával, az Európai Szociális Alap társfinanszírozásával valósul meg.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152280" y="404640"/>
            <a:ext cx="88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50021"/>
                </a:solidFill>
                <a:latin typeface="Arial"/>
              </a:rPr>
              <a:t>Köszönetnyilvání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168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171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174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177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Objektum 2"/>
          <p:cNvGraphicFramePr/>
          <p:nvPr/>
        </p:nvGraphicFramePr>
        <p:xfrm>
          <a:off x="-128520" y="549360"/>
          <a:ext cx="8248680" cy="63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ktum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8520" y="549360"/>
                    <a:ext cx="8248680" cy="63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artalom helye 2"/>
          <p:cNvSpPr/>
          <p:nvPr/>
        </p:nvSpPr>
        <p:spPr>
          <a:xfrm>
            <a:off x="66600" y="555480"/>
            <a:ext cx="8863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A közlekedési rendszerek és folyamatok egyre részletesebb,</a:t>
            </a:r>
            <a:br>
              <a:rPr sz="1600"/>
            </a:b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 valós  idejű leképezése adatbázisokban (eltérő célokkal) – </a:t>
            </a:r>
            <a:r>
              <a:rPr b="1" lang="hu-HU" sz="1600" spc="-1" strike="noStrike">
                <a:solidFill>
                  <a:srgbClr val="0070c0"/>
                </a:solidFill>
                <a:latin typeface="Arial"/>
              </a:rPr>
              <a:t>kutatási potenci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églalap 4"/>
          <p:cNvSpPr/>
          <p:nvPr/>
        </p:nvSpPr>
        <p:spPr>
          <a:xfrm>
            <a:off x="-444600" y="6543720"/>
            <a:ext cx="69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rendszert leképező információ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églalap 5"/>
          <p:cNvSpPr/>
          <p:nvPr/>
        </p:nvSpPr>
        <p:spPr>
          <a:xfrm>
            <a:off x="5430960" y="4815000"/>
            <a:ext cx="33890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információkezelési műveletek intenzitása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1. információgyűjtés - (idő- vagy eseményvezérelt) mintavételezési frekvenc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2. információfeldolgozás - a keresleti és a kínálati jellemzők egymáshoz rendezése célfüggvények alapjá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zövegdoboz 86"/>
          <p:cNvSpPr/>
          <p:nvPr/>
        </p:nvSpPr>
        <p:spPr>
          <a:xfrm>
            <a:off x="5500800" y="654372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4403880" y="2529000"/>
            <a:ext cx="4489200" cy="2263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000" spc="-1" strike="noStrike">
                <a:solidFill>
                  <a:srgbClr val="191919"/>
                </a:solidFill>
                <a:latin typeface="Arial"/>
              </a:rPr>
              <a:t>Kínál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4524480" y="2820960"/>
            <a:ext cx="960480" cy="186840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09520" y="2529000"/>
            <a:ext cx="3354480" cy="2865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000" spc="-1" strike="noStrike">
                <a:solidFill>
                  <a:srgbClr val="191919"/>
                </a:solidFill>
                <a:latin typeface="Arial"/>
              </a:rPr>
              <a:t>Keresl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2441520" y="3321000"/>
            <a:ext cx="960480" cy="194472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6360" y="681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7315200" y="3249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92160" y="244440"/>
            <a:ext cx="8943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70c0"/>
                </a:solidFill>
                <a:latin typeface="Arial"/>
              </a:rPr>
              <a:t>Kutatási térké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11"/>
          <p:cNvSpPr/>
          <p:nvPr/>
        </p:nvSpPr>
        <p:spPr>
          <a:xfrm flipV="1">
            <a:off x="647640" y="3429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604960" y="3538440"/>
            <a:ext cx="64152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előre tervezett utaz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1609560" y="3614760"/>
            <a:ext cx="63828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 (igény-befolyásolá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3587760" y="5265720"/>
            <a:ext cx="2855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actual traffic situation (location) based information servic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4668840" y="3538440"/>
            <a:ext cx="63972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előre 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5651640" y="3645000"/>
            <a:ext cx="64116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 (forgalom-irányítá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641520" y="42814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45"/>
          <p:cNvSpPr/>
          <p:nvPr/>
        </p:nvSpPr>
        <p:spPr>
          <a:xfrm flipV="1">
            <a:off x="1778040" y="4273560"/>
            <a:ext cx="0" cy="53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46"/>
          <p:cNvSpPr/>
          <p:nvPr/>
        </p:nvSpPr>
        <p:spPr>
          <a:xfrm>
            <a:off x="2050920" y="2421000"/>
            <a:ext cx="0" cy="11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49"/>
          <p:cNvSpPr/>
          <p:nvPr/>
        </p:nvSpPr>
        <p:spPr>
          <a:xfrm>
            <a:off x="938160" y="4809960"/>
            <a:ext cx="83988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2880" bIns="-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50"/>
          <p:cNvSpPr/>
          <p:nvPr/>
        </p:nvSpPr>
        <p:spPr>
          <a:xfrm>
            <a:off x="2050920" y="2421000"/>
            <a:ext cx="644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57"/>
          <p:cNvSpPr/>
          <p:nvPr/>
        </p:nvSpPr>
        <p:spPr>
          <a:xfrm>
            <a:off x="3246480" y="38019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58"/>
          <p:cNvSpPr/>
          <p:nvPr/>
        </p:nvSpPr>
        <p:spPr>
          <a:xfrm>
            <a:off x="1793880" y="323208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59"/>
          <p:cNvSpPr/>
          <p:nvPr/>
        </p:nvSpPr>
        <p:spPr>
          <a:xfrm flipH="1">
            <a:off x="944280" y="323532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81"/>
          <p:cNvSpPr/>
          <p:nvPr/>
        </p:nvSpPr>
        <p:spPr>
          <a:xfrm>
            <a:off x="324000" y="3610080"/>
            <a:ext cx="634680" cy="671400"/>
          </a:xfrm>
          <a:prstGeom prst="ellipse">
            <a:avLst/>
          </a:prstGeom>
          <a:solidFill>
            <a:srgbClr val="e3f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82"/>
          <p:cNvSpPr/>
          <p:nvPr/>
        </p:nvSpPr>
        <p:spPr>
          <a:xfrm>
            <a:off x="351000" y="3643200"/>
            <a:ext cx="6346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333333"/>
                </a:solidFill>
                <a:latin typeface="Arial"/>
              </a:rPr>
              <a:t>sze-mély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333333"/>
                </a:solidFill>
                <a:latin typeface="Arial"/>
              </a:rPr>
              <a:t>(döntések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85"/>
          <p:cNvSpPr/>
          <p:nvPr/>
        </p:nvSpPr>
        <p:spPr>
          <a:xfrm flipV="1">
            <a:off x="1438200" y="3933360"/>
            <a:ext cx="171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0"/>
          <p:cNvSpPr/>
          <p:nvPr/>
        </p:nvSpPr>
        <p:spPr>
          <a:xfrm>
            <a:off x="6459480" y="2820960"/>
            <a:ext cx="754200" cy="280836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valós forgalmi helyze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(mozgó objektumok adatai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91"/>
          <p:cNvSpPr/>
          <p:nvPr/>
        </p:nvSpPr>
        <p:spPr>
          <a:xfrm>
            <a:off x="7380360" y="3649680"/>
            <a:ext cx="641160" cy="66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(forgalmi előrejelzé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4668840" y="4119480"/>
            <a:ext cx="63972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operatívan 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2604960" y="4100400"/>
            <a:ext cx="6415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tényleges  utaz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Csoportba foglalás 95"/>
          <p:cNvGrpSpPr/>
          <p:nvPr/>
        </p:nvGrpSpPr>
        <p:grpSpPr>
          <a:xfrm>
            <a:off x="6540480" y="5102280"/>
            <a:ext cx="593640" cy="523800"/>
            <a:chOff x="6540480" y="5102280"/>
            <a:chExt cx="593640" cy="523800"/>
          </a:xfrm>
        </p:grpSpPr>
        <p:sp>
          <p:nvSpPr>
            <p:cNvPr id="215" name="AutoShape 37"/>
            <p:cNvSpPr/>
            <p:nvPr/>
          </p:nvSpPr>
          <p:spPr>
            <a:xfrm>
              <a:off x="6540480" y="5102280"/>
              <a:ext cx="593640" cy="45108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 Box 38"/>
            <p:cNvSpPr/>
            <p:nvPr/>
          </p:nvSpPr>
          <p:spPr>
            <a:xfrm>
              <a:off x="6540480" y="5206320"/>
              <a:ext cx="5634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utazók pozíció adatai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AutoShape 37"/>
          <p:cNvSpPr/>
          <p:nvPr/>
        </p:nvSpPr>
        <p:spPr>
          <a:xfrm>
            <a:off x="343080" y="4464000"/>
            <a:ext cx="595080" cy="657360"/>
          </a:xfrm>
          <a:prstGeom prst="can">
            <a:avLst>
              <a:gd name="adj" fmla="val 2262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343080" y="4626000"/>
            <a:ext cx="595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termékek, szolgál-tatások iránti igény adato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37"/>
          <p:cNvSpPr/>
          <p:nvPr/>
        </p:nvSpPr>
        <p:spPr>
          <a:xfrm>
            <a:off x="351000" y="2997360"/>
            <a:ext cx="593640" cy="45216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351000" y="3102120"/>
            <a:ext cx="593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személyes jellemző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343080" y="5935320"/>
            <a:ext cx="2966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2232000" y="3933720"/>
            <a:ext cx="19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59"/>
          <p:cNvSpPr/>
          <p:nvPr/>
        </p:nvSpPr>
        <p:spPr>
          <a:xfrm flipV="1">
            <a:off x="6807240" y="2420640"/>
            <a:ext cx="12600" cy="65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37"/>
          <p:cNvSpPr/>
          <p:nvPr/>
        </p:nvSpPr>
        <p:spPr>
          <a:xfrm>
            <a:off x="6523200" y="3070080"/>
            <a:ext cx="593640" cy="45108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38"/>
          <p:cNvSpPr/>
          <p:nvPr/>
        </p:nvSpPr>
        <p:spPr>
          <a:xfrm>
            <a:off x="6535800" y="3178080"/>
            <a:ext cx="561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járművek pozíció és állapot adatai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1"/>
          <p:cNvSpPr/>
          <p:nvPr/>
        </p:nvSpPr>
        <p:spPr>
          <a:xfrm>
            <a:off x="8172360" y="3643200"/>
            <a:ext cx="641520" cy="66996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rövid távon előre jelzett forgalmi helyz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50"/>
          <p:cNvSpPr/>
          <p:nvPr/>
        </p:nvSpPr>
        <p:spPr>
          <a:xfrm>
            <a:off x="2050920" y="547848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Line 46"/>
          <p:cNvSpPr/>
          <p:nvPr/>
        </p:nvSpPr>
        <p:spPr>
          <a:xfrm flipV="1">
            <a:off x="2050920" y="427464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 57"/>
          <p:cNvSpPr/>
          <p:nvPr/>
        </p:nvSpPr>
        <p:spPr>
          <a:xfrm>
            <a:off x="3246480" y="425772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3678120" y="3657600"/>
            <a:ext cx="64152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 (kínálat tervezé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59"/>
          <p:cNvSpPr/>
          <p:nvPr/>
        </p:nvSpPr>
        <p:spPr>
          <a:xfrm flipV="1">
            <a:off x="4962600" y="24206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59"/>
          <p:cNvSpPr/>
          <p:nvPr/>
        </p:nvSpPr>
        <p:spPr>
          <a:xfrm flipH="1" flipV="1">
            <a:off x="8496000" y="2420640"/>
            <a:ext cx="32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116000" y="3743280"/>
            <a:ext cx="336600" cy="41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s</a:t>
            </a:r>
            <a:r>
              <a:rPr b="0" lang="en-GB" sz="800" spc="-1" strike="noStrike">
                <a:solidFill>
                  <a:srgbClr val="191919"/>
                </a:solidFill>
                <a:latin typeface="Arial"/>
              </a:rPr>
              <a:t>mart phon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5484960" y="4008600"/>
            <a:ext cx="16668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11"/>
          <p:cNvSpPr/>
          <p:nvPr/>
        </p:nvSpPr>
        <p:spPr>
          <a:xfrm flipV="1">
            <a:off x="6289560" y="4000680"/>
            <a:ext cx="16668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85"/>
          <p:cNvSpPr/>
          <p:nvPr/>
        </p:nvSpPr>
        <p:spPr>
          <a:xfrm flipV="1">
            <a:off x="944640" y="3933360"/>
            <a:ext cx="171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7236000" y="4008600"/>
            <a:ext cx="14436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8028000" y="4005360"/>
            <a:ext cx="14436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Line 46"/>
          <p:cNvSpPr/>
          <p:nvPr/>
        </p:nvSpPr>
        <p:spPr>
          <a:xfrm>
            <a:off x="2892600" y="45990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77"/>
          <p:cNvSpPr/>
          <p:nvPr/>
        </p:nvSpPr>
        <p:spPr>
          <a:xfrm>
            <a:off x="193680" y="5576760"/>
            <a:ext cx="960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Jelmagyarázat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77"/>
          <p:cNvSpPr/>
          <p:nvPr/>
        </p:nvSpPr>
        <p:spPr>
          <a:xfrm>
            <a:off x="-684360" y="765000"/>
            <a:ext cx="6104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191919"/>
                </a:solidFill>
                <a:latin typeface="Arial"/>
              </a:rPr>
              <a:t>közlekedési rendszerek „áramlási tere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77"/>
          <p:cNvSpPr/>
          <p:nvPr/>
        </p:nvSpPr>
        <p:spPr>
          <a:xfrm>
            <a:off x="750960" y="5845320"/>
            <a:ext cx="11779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191919"/>
                </a:solidFill>
                <a:latin typeface="Arial"/>
              </a:rPr>
              <a:t>információáraml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Jobbra nyíl 1"/>
          <p:cNvSpPr/>
          <p:nvPr/>
        </p:nvSpPr>
        <p:spPr>
          <a:xfrm>
            <a:off x="351000" y="6127920"/>
            <a:ext cx="322200" cy="129960"/>
          </a:xfrm>
          <a:prstGeom prst="rightArrow">
            <a:avLst>
              <a:gd name="adj1" fmla="val 50000"/>
              <a:gd name="adj2" fmla="val 4967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77"/>
          <p:cNvSpPr/>
          <p:nvPr/>
        </p:nvSpPr>
        <p:spPr>
          <a:xfrm>
            <a:off x="755640" y="6099120"/>
            <a:ext cx="2136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191919"/>
                </a:solidFill>
                <a:latin typeface="Arial"/>
              </a:rPr>
              <a:t>személy- és járműáraml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Jobbra nyíl 74"/>
          <p:cNvSpPr/>
          <p:nvPr/>
        </p:nvSpPr>
        <p:spPr>
          <a:xfrm>
            <a:off x="3402000" y="5118120"/>
            <a:ext cx="3041640" cy="103320"/>
          </a:xfrm>
          <a:prstGeom prst="rightArrow">
            <a:avLst>
              <a:gd name="adj1" fmla="val 50000"/>
              <a:gd name="adj2" fmla="val 4988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Jobbra nyíl 75"/>
          <p:cNvSpPr/>
          <p:nvPr/>
        </p:nvSpPr>
        <p:spPr>
          <a:xfrm>
            <a:off x="5484960" y="2894040"/>
            <a:ext cx="974520" cy="10332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5445000" y="4941720"/>
            <a:ext cx="110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191919"/>
                </a:solidFill>
                <a:latin typeface="Arial"/>
              </a:rPr>
              <a:t>személyáramlato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45000" y="2714760"/>
            <a:ext cx="110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191919"/>
                </a:solidFill>
                <a:latin typeface="Arial"/>
              </a:rPr>
              <a:t>járműáramlato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Csoportba foglalás 95"/>
          <p:cNvGrpSpPr/>
          <p:nvPr/>
        </p:nvGrpSpPr>
        <p:grpSpPr>
          <a:xfrm>
            <a:off x="5670720" y="3068640"/>
            <a:ext cx="593640" cy="566640"/>
            <a:chOff x="5670720" y="3068640"/>
            <a:chExt cx="593640" cy="566640"/>
          </a:xfrm>
        </p:grpSpPr>
        <p:sp>
          <p:nvSpPr>
            <p:cNvPr id="250" name="AutoShape 37"/>
            <p:cNvSpPr/>
            <p:nvPr/>
          </p:nvSpPr>
          <p:spPr>
            <a:xfrm>
              <a:off x="5670720" y="3068640"/>
              <a:ext cx="593640" cy="45072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 Box 38"/>
            <p:cNvSpPr/>
            <p:nvPr/>
          </p:nvSpPr>
          <p:spPr>
            <a:xfrm>
              <a:off x="5696640" y="3215520"/>
              <a:ext cx="5634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környezeti adatok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Csoportba foglalás 2"/>
          <p:cNvGrpSpPr/>
          <p:nvPr/>
        </p:nvGrpSpPr>
        <p:grpSpPr>
          <a:xfrm>
            <a:off x="5680080" y="4489560"/>
            <a:ext cx="593640" cy="560160"/>
            <a:chOff x="5680080" y="4489560"/>
            <a:chExt cx="593640" cy="560160"/>
          </a:xfrm>
        </p:grpSpPr>
        <p:sp>
          <p:nvSpPr>
            <p:cNvPr id="253" name="AutoShape 37"/>
            <p:cNvSpPr/>
            <p:nvPr/>
          </p:nvSpPr>
          <p:spPr>
            <a:xfrm>
              <a:off x="5680080" y="4489560"/>
              <a:ext cx="593640" cy="45252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 Box 38"/>
            <p:cNvSpPr/>
            <p:nvPr/>
          </p:nvSpPr>
          <p:spPr>
            <a:xfrm>
              <a:off x="5691240" y="4629600"/>
              <a:ext cx="5634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infrastruktúra jellemzők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5" name="Line 11"/>
          <p:cNvSpPr/>
          <p:nvPr/>
        </p:nvSpPr>
        <p:spPr>
          <a:xfrm flipV="1">
            <a:off x="5972040" y="432540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5959440" y="3502080"/>
            <a:ext cx="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Csoportba foglalás 8"/>
          <p:cNvGrpSpPr/>
          <p:nvPr/>
        </p:nvGrpSpPr>
        <p:grpSpPr>
          <a:xfrm>
            <a:off x="5329080" y="1706400"/>
            <a:ext cx="1986120" cy="3268800"/>
            <a:chOff x="5329080" y="1706400"/>
            <a:chExt cx="1986120" cy="3268800"/>
          </a:xfrm>
        </p:grpSpPr>
        <p:sp>
          <p:nvSpPr>
            <p:cNvPr id="258" name="Text Box 77"/>
            <p:cNvSpPr/>
            <p:nvPr/>
          </p:nvSpPr>
          <p:spPr>
            <a:xfrm>
              <a:off x="5329080" y="1706400"/>
              <a:ext cx="19792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1. tervezett és nyújtott minőség közötti rés vizsgálat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ekerekített téglalap 2"/>
            <p:cNvSpPr/>
            <p:nvPr/>
          </p:nvSpPr>
          <p:spPr>
            <a:xfrm>
              <a:off x="5395320" y="2714400"/>
              <a:ext cx="1919880" cy="2260800"/>
            </a:xfrm>
            <a:custGeom>
              <a:avLst/>
              <a:gdLst>
                <a:gd name="textAreaLeft" fmla="*/ 93600 w 1919880"/>
                <a:gd name="textAreaRight" fmla="*/ 1826280 w 1919880"/>
                <a:gd name="textAreaTop" fmla="*/ 93600 h 2260800"/>
                <a:gd name="textAreaBottom" fmla="*/ 2167200 h 2260800"/>
              </a:gdLst>
              <a:ahLst/>
              <a:rect l="textAreaLeft" t="textAreaTop" r="textAreaRight" b="textAreaBottom"/>
              <a:pathLst>
                <a:path w="21600" h="25435">
                  <a:moveTo>
                    <a:pt x="3600" y="0"/>
                  </a:moveTo>
                  <a:arcTo wR="3600" hR="3600" stAng="16200000" swAng="-5400000"/>
                  <a:lnTo>
                    <a:pt x="0" y="21835"/>
                  </a:lnTo>
                  <a:arcTo wR="3600" hR="3600" stAng="10800000" swAng="-5400000"/>
                  <a:lnTo>
                    <a:pt x="18000" y="254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Csoportba foglalás 5"/>
          <p:cNvGrpSpPr/>
          <p:nvPr/>
        </p:nvGrpSpPr>
        <p:grpSpPr>
          <a:xfrm>
            <a:off x="4356000" y="1266840"/>
            <a:ext cx="4537080" cy="4362480"/>
            <a:chOff x="4356000" y="1266840"/>
            <a:chExt cx="4537080" cy="4362480"/>
          </a:xfrm>
        </p:grpSpPr>
        <p:sp>
          <p:nvSpPr>
            <p:cNvPr id="261" name="Text Box 77"/>
            <p:cNvSpPr/>
            <p:nvPr/>
          </p:nvSpPr>
          <p:spPr>
            <a:xfrm>
              <a:off x="4356000" y="1266840"/>
              <a:ext cx="4537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2. az érzékelt minőség befolyásolása</a:t>
              </a:r>
              <a:br>
                <a:rPr sz="1200"/>
              </a:b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 (a forgalmi helyzet megbízható előrejelzéséve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Lekerekített téglalap 79"/>
            <p:cNvSpPr/>
            <p:nvPr/>
          </p:nvSpPr>
          <p:spPr>
            <a:xfrm>
              <a:off x="4356000" y="2764800"/>
              <a:ext cx="4537080" cy="28645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Csoportba foglalás 6"/>
          <p:cNvGrpSpPr/>
          <p:nvPr/>
        </p:nvGrpSpPr>
        <p:grpSpPr>
          <a:xfrm>
            <a:off x="0" y="1847880"/>
            <a:ext cx="2962440" cy="2523960"/>
            <a:chOff x="0" y="1847880"/>
            <a:chExt cx="2962440" cy="2523960"/>
          </a:xfrm>
        </p:grpSpPr>
        <p:sp>
          <p:nvSpPr>
            <p:cNvPr id="264" name="Text Box 77"/>
            <p:cNvSpPr/>
            <p:nvPr/>
          </p:nvSpPr>
          <p:spPr>
            <a:xfrm>
              <a:off x="0" y="1847880"/>
              <a:ext cx="29624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3. érzékelt minőség befolyásolás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(személyre szabott információkka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ekerekített téglalap 80"/>
            <p:cNvSpPr/>
            <p:nvPr/>
          </p:nvSpPr>
          <p:spPr>
            <a:xfrm>
              <a:off x="237960" y="2926800"/>
              <a:ext cx="2101320" cy="14450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Csoportba foglalás 7"/>
          <p:cNvGrpSpPr/>
          <p:nvPr/>
        </p:nvGrpSpPr>
        <p:grpSpPr>
          <a:xfrm>
            <a:off x="-36360" y="1274760"/>
            <a:ext cx="3747960" cy="4025880"/>
            <a:chOff x="-36360" y="1274760"/>
            <a:chExt cx="3747960" cy="4025880"/>
          </a:xfrm>
        </p:grpSpPr>
        <p:sp>
          <p:nvSpPr>
            <p:cNvPr id="267" name="Lekerekített téglalap 82"/>
            <p:cNvSpPr/>
            <p:nvPr/>
          </p:nvSpPr>
          <p:spPr>
            <a:xfrm>
              <a:off x="146520" y="2896920"/>
              <a:ext cx="3417480" cy="24037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 Box 77"/>
            <p:cNvSpPr/>
            <p:nvPr/>
          </p:nvSpPr>
          <p:spPr>
            <a:xfrm>
              <a:off x="-36360" y="1274760"/>
              <a:ext cx="374796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4. az elvárt minőség feltárás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(a mobilitási igények megbízható előrejelzéséve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Szövegdoboz 3"/>
          <p:cNvSpPr/>
          <p:nvPr/>
        </p:nvSpPr>
        <p:spPr>
          <a:xfrm>
            <a:off x="4611600" y="765000"/>
            <a:ext cx="45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33"/>
                </a:solidFill>
                <a:latin typeface="Arial"/>
              </a:rPr>
              <a:t>Adatgyűjtés különböző forrásokból – (adatbányásza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églalap 19"/>
          <p:cNvSpPr/>
          <p:nvPr/>
        </p:nvSpPr>
        <p:spPr>
          <a:xfrm>
            <a:off x="3468600" y="5929200"/>
            <a:ext cx="54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információkezelés modell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zövegdoboz 86"/>
          <p:cNvSpPr/>
          <p:nvPr/>
        </p:nvSpPr>
        <p:spPr>
          <a:xfrm>
            <a:off x="5189400" y="625788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333333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273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276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279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282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artalom helye 2"/>
          <p:cNvSpPr/>
          <p:nvPr/>
        </p:nvSpPr>
        <p:spPr>
          <a:xfrm>
            <a:off x="179280" y="1168560"/>
            <a:ext cx="886320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élkitűz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zók befolyásolásával („soft” intézkedésekkel, információkezeléssel) jelentős eredmények érhetők 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Közlekedési minőség javít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Hatékonyságnöveked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ármű mozgás - járművek jellemző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s mozgás - személyek jellemző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özlekedési rendszer többi összetevőinek jellemző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zemeltetői elvárások        - kapacit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zói elvárások                 - igény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Kontextus függő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 személyre szabott, helytől függő és a körülményektől függő információkezel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Okostelefon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datgyűjtés tekintetében is jelentő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ávnyíl 19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28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290" name="Sávnyíl 32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293" name="Sávnyíl 30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TextBox 4"/>
          <p:cNvSpPr/>
          <p:nvPr/>
        </p:nvSpPr>
        <p:spPr>
          <a:xfrm rot="16200000">
            <a:off x="5481000" y="3191400"/>
            <a:ext cx="693432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ódszer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artalom helye 2"/>
          <p:cNvSpPr/>
          <p:nvPr/>
        </p:nvSpPr>
        <p:spPr>
          <a:xfrm>
            <a:off x="112680" y="1879560"/>
            <a:ext cx="857880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datforr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isalföld Volán Zrt. győri helyi közlekedésében a műholdas flottakövető rendszerben gyűjtött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ÁV Pályavasút Üzletágnál rendelkezésre álló, az állomásokon rögzített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Győri polgármesteri hivatal által készíttetett felmérések adatai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kézi forgalomszámlálási adatok, parkolók adata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valon Rent a Car(e) Kf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dőkép Üzleti Szolgáltatások Kft. – Országos Meteorológiai Szolgálat – időjárási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ávnyíl 19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02" name="Sávnyíl 32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05" name="Sávnyíl 30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TextBox 4"/>
          <p:cNvSpPr/>
          <p:nvPr/>
        </p:nvSpPr>
        <p:spPr>
          <a:xfrm rot="16200000">
            <a:off x="5481000" y="3191400"/>
            <a:ext cx="693432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ódszer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artalom helye 2"/>
          <p:cNvSpPr/>
          <p:nvPr/>
        </p:nvSpPr>
        <p:spPr>
          <a:xfrm>
            <a:off x="282600" y="1374840"/>
            <a:ext cx="8578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utatási módszer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datrögzítés módszere alapján az információtartalom feltár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rnetes kérdőíves kikérdezés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modell készít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bázis létreh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oportképzés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öbb szempont szerinti lekérdezése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(külön-külön és együttesen 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ultikritériumos 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öntéstámogató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lgoritmus kidolgo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inta alkalmazás fejleszt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14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16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19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Téglalap 1"/>
          <p:cNvSpPr/>
          <p:nvPr/>
        </p:nvSpPr>
        <p:spPr>
          <a:xfrm>
            <a:off x="90360" y="1268280"/>
            <a:ext cx="90360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lyóirat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.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el of Multimodal Mobility Coordination and Guiding System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tional Journal of Engineering and Innovative Technology (IJEIT) Volume 3, Issue 6, pp. 125-13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 Sándor, Zs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ole of Integrated Parking Information System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in Traffic Managemen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4)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riodica Polytechnica Civil Engineering. (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nder review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. Sándor, Z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őzés hatása a hazai autópályák forgalmi jellemzői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özlekedéstudományi Szemle Vol. 4. pp. 25-36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. Sándor, Z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ffects of Rainfall on the Motorway Traffic Parameter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a Technica Jaurinensis 'Series Transitus' Vol. 6. No. 3. pp. 120-13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z operatív menetrendkészítés automatizálásának vizsgálata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 városi közösségi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özlekedésb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 Közlekedéstudományi Szemle Vol. 6. pp. 13-2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earch on Automation of Operative Scheduling in Urban Public 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a Technica Jaurinensis 'Series Transitus' Vol. 6. No. 3. pp. 94-10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50021"/>
                </a:solidFill>
                <a:latin typeface="Arial"/>
              </a:rPr>
              <a:t>7. Sándor, Zs. – Csiszár, Cs.: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Method for Analysis of Delays in Local Bus Transport and Prediction of </a:t>
            </a:r>
            <a:br>
              <a:rPr sz="1400"/>
            </a:br>
            <a:r>
              <a:rPr b="1" lang="hu-HU" sz="1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Dwelling Times at Stops </a:t>
            </a: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(2014). Acta Polytechnica Hungarica. (</a:t>
            </a:r>
            <a:r>
              <a:rPr b="0" lang="hu-HU" sz="1400" spc="-1" strike="noStrike">
                <a:solidFill>
                  <a:srgbClr val="a50021"/>
                </a:solidFill>
                <a:latin typeface="Arial"/>
              </a:rPr>
              <a:t>under review</a:t>
            </a: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alysis of Delay Causes in Railway Passenger 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riodica Polytechnic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gineering.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ol. 43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ccepte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07:07:33Z</dcterms:created>
  <dc:creator>Sándor Zsolt</dc:creator>
  <dc:description/>
  <dc:language>en-US</dc:language>
  <cp:lastModifiedBy>Kiss Anita</cp:lastModifiedBy>
  <cp:lastPrinted>2013-08-28T08:21:25Z</cp:lastPrinted>
  <dcterms:modified xsi:type="dcterms:W3CDTF">2014-09-09T07:15:24Z</dcterms:modified>
  <cp:revision>122</cp:revision>
  <dc:subject/>
  <dc:title>Késési események elemzése helyi autóbusz közlekedésben</dc:title>
</cp:coreProperties>
</file>